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992-7F9A-4A2C-91ED-83EC0B0B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C3A-ABA0-42A9-9437-610389E5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5E8-34FA-47DF-B54F-E53DFE1D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D458-ABF5-4E82-933F-6A8BA2F1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953F-B0CC-421D-822F-E8A60CEE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B3B-55B2-41A4-9E4F-7E91FE2B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1B8-7B1A-4C4F-8BC2-8FC63C82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3BE3-8EC3-47C2-9D10-54CBD584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E4D7-D961-4BC7-82D0-26965BD9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F30F-42CF-47AD-A6CC-11A06722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D399-E2EA-4546-970A-80F131ED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2EAE-B02E-4968-A319-1694ABBD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K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K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FFBE-95AB-42F4-99F5-B80B0366C522}" type="slidenum">
              <a:rPr b="0" lang="ar-K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714760" y="1928880"/>
            <a:ext cx="3714480" cy="2571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ction Button: Forward or Next 4">
            <a:hlinkClick r:id="" action="ppaction://hlinkshowjump?jump=nextslide"/>
          </p:cNvPr>
          <p:cNvSpPr/>
          <p:nvPr/>
        </p:nvSpPr>
        <p:spPr>
          <a:xfrm>
            <a:off x="5429160" y="4572000"/>
            <a:ext cx="857520" cy="357120"/>
          </a:xfrm>
          <a:custGeom>
            <a:avLst/>
            <a:gdLst>
              <a:gd name="textAreaLeft" fmla="*/ 23040 w 857520"/>
              <a:gd name="textAreaRight" fmla="*/ 834480 w 8575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1836" h="21600">
                <a:moveTo>
                  <a:pt x="0" y="0"/>
                </a:moveTo>
                <a:lnTo>
                  <a:pt x="51836" y="0"/>
                </a:lnTo>
                <a:lnTo>
                  <a:pt x="51836" y="21600"/>
                </a:lnTo>
                <a:lnTo>
                  <a:pt x="0" y="21600"/>
                </a:lnTo>
                <a:close/>
              </a:path>
              <a:path fill="lightenLess" w="51836" h="21600">
                <a:moveTo>
                  <a:pt x="0" y="0"/>
                </a:moveTo>
                <a:lnTo>
                  <a:pt x="51836" y="0"/>
                </a:lnTo>
                <a:lnTo>
                  <a:pt x="50436" y="1400"/>
                </a:lnTo>
                <a:lnTo>
                  <a:pt x="1400" y="1400"/>
                </a:lnTo>
                <a:close/>
              </a:path>
              <a:path fill="darken" w="51836" h="21600">
                <a:moveTo>
                  <a:pt x="51836" y="0"/>
                </a:moveTo>
                <a:lnTo>
                  <a:pt x="51836" y="21600"/>
                </a:lnTo>
                <a:lnTo>
                  <a:pt x="50436" y="20200"/>
                </a:lnTo>
                <a:lnTo>
                  <a:pt x="50436" y="1400"/>
                </a:lnTo>
                <a:close/>
              </a:path>
              <a:path fill="darkenLess" w="51836" h="21600">
                <a:moveTo>
                  <a:pt x="51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36" y="20200"/>
                </a:lnTo>
                <a:close/>
              </a:path>
              <a:path fill="lighten" w="51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36" h="21600">
                <a:moveTo>
                  <a:pt x="18911" y="3794"/>
                </a:moveTo>
                <a:lnTo>
                  <a:pt x="32924" y="10800"/>
                </a:lnTo>
                <a:lnTo>
                  <a:pt x="1891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YouTube- McDonald's Best Commercial Ever!.wmv" descr=""/>
          <p:cNvPicPr/>
          <p:nvPr/>
        </p:nvPicPr>
        <p:blipFill>
          <a:blip r:embed="rId1"/>
          <a:stretch/>
        </p:blipFill>
        <p:spPr>
          <a:xfrm>
            <a:off x="2928960" y="2000160"/>
            <a:ext cx="3286080" cy="2465640"/>
          </a:xfrm>
          <a:prstGeom prst="rect">
            <a:avLst/>
          </a:prstGeom>
          <a:ln w="0">
            <a:noFill/>
          </a:ln>
        </p:spPr>
      </p:pic>
      <p:pic>
        <p:nvPicPr>
          <p:cNvPr id="44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-571680" y="1928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74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ew Stories (Highway Blues).wma" descr=""/>
          <p:cNvPicPr/>
          <p:nvPr/>
        </p:nvPicPr>
        <p:blipFill>
          <a:blip r:embed="rId1"/>
          <a:stretch/>
        </p:blipFill>
        <p:spPr>
          <a:xfrm>
            <a:off x="785880" y="5572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YouTube- McDonald's Best Commercial Ever!.wmv" descr=""/>
          <p:cNvPicPr/>
          <p:nvPr/>
        </p:nvPicPr>
        <p:blipFill>
          <a:blip r:embed="rId2"/>
          <a:stretch/>
        </p:blipFill>
        <p:spPr>
          <a:xfrm>
            <a:off x="2786040" y="18572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9371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YouTube- Learn to Speak Body Tape 5.wmv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08:53:55Z</dcterms:created>
  <dc:creator>Admin</dc:creator>
  <dc:description/>
  <dc:language>en-US</dc:language>
  <cp:lastModifiedBy>Admin</cp:lastModifiedBy>
  <dcterms:modified xsi:type="dcterms:W3CDTF">2009-12-16T11:18:01Z</dcterms:modified>
  <cp:revision>9</cp:revision>
  <dc:subject/>
  <dc:title>Slide 1</dc:title>
</cp:coreProperties>
</file>