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301-BDC6-4AF8-B66A-6847AC0B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DD0-5249-45F1-A972-30675D39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5F5-0983-43D4-8661-9B9190F3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F55-F37A-40A4-9EEF-1DD5B1DE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D16-31F2-4BEC-8644-B002491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37B-4E9E-4EAD-A7E7-C0E3475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33F-96B3-466D-9B5F-E21AB28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1CE-9542-48F0-9259-4AC3DF04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A4E-9968-4EE6-BCDA-43FFDF0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445-48C9-4D98-B226-CE507E6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352-C0A9-452F-A834-A6CE0DA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91A-F835-4261-B949-7D34CB6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653-17C3-4B44-89F4-C081EC7238A7}" type="slidenum">
              <a:rPr b="0" lang="ar-K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714760" y="1928880"/>
            <a:ext cx="371448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ction Button: Forward or Next 4">
            <a:hlinkClick r:id="" action="ppaction://hlinkshowjump?jump=nextslide"/>
          </p:cNvPr>
          <p:cNvSpPr/>
          <p:nvPr/>
        </p:nvSpPr>
        <p:spPr>
          <a:xfrm>
            <a:off x="5429160" y="457200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36" h="21600">
                <a:moveTo>
                  <a:pt x="18911" y="3794"/>
                </a:moveTo>
                <a:lnTo>
                  <a:pt x="32924" y="10800"/>
                </a:lnTo>
                <a:lnTo>
                  <a:pt x="1891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YouTube- McDonald's Best Commercial Ever!.wmv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-571680" y="1928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ew Stories (Highway Blues).wma" descr=""/>
          <p:cNvPicPr/>
          <p:nvPr/>
        </p:nvPicPr>
        <p:blipFill>
          <a:blip r:embed="rId1"/>
          <a:stretch/>
        </p:blipFill>
        <p:spPr>
          <a:xfrm>
            <a:off x="785880" y="557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YouTube- McDonald's Best Commercial Ever!.wmv" descr=""/>
          <p:cNvPicPr/>
          <p:nvPr/>
        </p:nvPicPr>
        <p:blipFill>
          <a:blip r:embed="rId2"/>
          <a:stretch/>
        </p:blipFill>
        <p:spPr>
          <a:xfrm>
            <a:off x="2786040" y="18572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37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YouTube- Learn to Speak Body Tape 5.wmv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8:53:55Z</dcterms:created>
  <dc:creator>Admin</dc:creator>
  <dc:description/>
  <dc:language>en-US</dc:language>
  <cp:lastModifiedBy>Admin</cp:lastModifiedBy>
  <dcterms:modified xsi:type="dcterms:W3CDTF">2009-12-16T11:18:01Z</dcterms:modified>
  <cp:revision>9</cp:revision>
  <dc:subject/>
  <dc:title>Slide 1</dc:title>
</cp:coreProperties>
</file>