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CDB-B453-4A84-AE75-2B313E6E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74C-910D-43AE-97A2-BA1CBA6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176-FB3F-4A75-9564-D0D2CED5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580-9782-4790-9FB5-5CA55E54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7A4-78B2-4414-B7A3-D732083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06F-41BD-4E9D-9132-61503C0F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DA2-3D0B-4DD2-95B0-66187980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DBE-3860-4254-B626-EF7B0D77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A25-D98E-450D-BAEB-03DC98BD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687-C1D7-4943-8FB6-0641A98C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72F-40CC-477C-955F-D717877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A58-D8A1-47E2-9F32-DFB60B6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B37E-AB04-468E-B215-C49D622902F3}" type="slidenum">
              <a:rPr b="0" lang="ar-K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714760" y="1928880"/>
            <a:ext cx="371448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ction Button: Forward or Next 4">
            <a:hlinkClick r:id="" action="ppaction://hlinkshowjump?jump=nextslide"/>
          </p:cNvPr>
          <p:cNvSpPr/>
          <p:nvPr/>
        </p:nvSpPr>
        <p:spPr>
          <a:xfrm>
            <a:off x="5429160" y="457200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36" h="21600">
                <a:moveTo>
                  <a:pt x="18911" y="3794"/>
                </a:moveTo>
                <a:lnTo>
                  <a:pt x="32924" y="10800"/>
                </a:lnTo>
                <a:lnTo>
                  <a:pt x="1891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YouTube- McDonald's Best Commercial Ever!.wmv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-571680" y="1928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ew Stories (Highway Blues).wma" descr=""/>
          <p:cNvPicPr/>
          <p:nvPr/>
        </p:nvPicPr>
        <p:blipFill>
          <a:blip r:embed="rId1"/>
          <a:stretch/>
        </p:blipFill>
        <p:spPr>
          <a:xfrm>
            <a:off x="785880" y="557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YouTube- McDonald's Best Commercial Ever!.wmv" descr=""/>
          <p:cNvPicPr/>
          <p:nvPr/>
        </p:nvPicPr>
        <p:blipFill>
          <a:blip r:embed="rId2"/>
          <a:stretch/>
        </p:blipFill>
        <p:spPr>
          <a:xfrm>
            <a:off x="2786040" y="18572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37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YouTube- Learn to Speak Body Tape 5.wmv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8:53:55Z</dcterms:created>
  <dc:creator>Admin</dc:creator>
  <dc:description/>
  <dc:language>en-US</dc:language>
  <cp:lastModifiedBy>Admin</cp:lastModifiedBy>
  <dcterms:modified xsi:type="dcterms:W3CDTF">2009-12-16T11:18:01Z</dcterms:modified>
  <cp:revision>9</cp:revision>
  <dc:subject/>
  <dc:title>Slide 1</dc:title>
</cp:coreProperties>
</file>