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7D9-C03A-40C9-8FC3-4F110F77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C6F-7E69-49CA-9087-AA1BBABD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289-364C-4721-839E-CE65E71B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CFF-744E-486B-B6E2-45C01ABF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DF8-3C0C-406B-B74C-41373B4A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F10-E961-47B5-843B-1FB50893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374-8A59-41A2-BDF8-8CE0BE3B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029-78F3-46F5-9671-57F6938B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983-4D1C-4E98-A391-D328FEB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36F-C5FD-4018-BE6D-41AC434A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74B-F9F8-4BCA-A664-2BC7542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523-D7A5-460F-82B4-33C56B70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CE41-1942-4CF5-A4A1-E296A1988C93}" type="slidenum">
              <a:rPr b="0" lang="ar-K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714760" y="1928880"/>
            <a:ext cx="371448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ction Button: Forward or Next 4">
            <a:hlinkClick r:id="" action="ppaction://hlinkshowjump?jump=nextslide"/>
          </p:cNvPr>
          <p:cNvSpPr/>
          <p:nvPr/>
        </p:nvSpPr>
        <p:spPr>
          <a:xfrm>
            <a:off x="5429160" y="457200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36" h="21600">
                <a:moveTo>
                  <a:pt x="18911" y="3794"/>
                </a:moveTo>
                <a:lnTo>
                  <a:pt x="32924" y="10800"/>
                </a:lnTo>
                <a:lnTo>
                  <a:pt x="1891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YouTube- McDonald's Best Commercial Ever!.wmv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-571680" y="1928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ew Stories (Highway Blues).wma" descr=""/>
          <p:cNvPicPr/>
          <p:nvPr/>
        </p:nvPicPr>
        <p:blipFill>
          <a:blip r:embed="rId1"/>
          <a:stretch/>
        </p:blipFill>
        <p:spPr>
          <a:xfrm>
            <a:off x="785880" y="557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YouTube- McDonald's Best Commercial Ever!.wmv" descr=""/>
          <p:cNvPicPr/>
          <p:nvPr/>
        </p:nvPicPr>
        <p:blipFill>
          <a:blip r:embed="rId2"/>
          <a:stretch/>
        </p:blipFill>
        <p:spPr>
          <a:xfrm>
            <a:off x="2786040" y="18572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37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YouTube- Learn to Speak Body Tape 5.wmv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8:53:55Z</dcterms:created>
  <dc:creator>Admin</dc:creator>
  <dc:description/>
  <dc:language>en-US</dc:language>
  <cp:lastModifiedBy>Admin</cp:lastModifiedBy>
  <dcterms:modified xsi:type="dcterms:W3CDTF">2009-12-16T11:18:01Z</dcterms:modified>
  <cp:revision>9</cp:revision>
  <dc:subject/>
  <dc:title>Slide 1</dc:title>
</cp:coreProperties>
</file>