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chimes.wav" ContentType="audio/x-wav"/>
  <Override PartName="/ppt/media/suction.wav" ContentType="audio/x-wav"/>
  <Override PartName="/ppt/media/image5.png" ContentType="image/png"/>
  <Override PartName="/ppt/media/image6.png" ContentType="image/png"/>
  <Override PartName="/ppt/media/image7.png" ContentType="image/png"/>
  <Override PartName="/ppt/media/drumroll.wav" ContentType="audio/x-wav"/>
  <Override PartName="/ppt/media/applause.wav" ContentType="audio/x-wav"/>
  <Override PartName="/ppt/media/image8.gif" ContentType="image/gif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FA4-BCB3-4628-A3CE-A38B2809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6D5-EDA6-44F6-BD9E-0CE36002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ADC-700A-4E16-BFA1-B61366C4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CF5-761D-43BB-8085-0062BD84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145-6818-41C4-B9A0-AF9918F8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D60-A197-49EF-977E-515FD9EB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099-94C1-4DCA-AB5D-059D4910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85E-0840-49E7-9135-9FA04931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D77-4647-4F82-8672-8B3CECED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F23-26E2-492A-A291-BCDF4AC2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612-FB95-47B2-9ECB-C3ECC75D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891-E292-4AD4-B826-909ABC01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F3DE-934B-4F45-833E-2EE5F5D967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" Target=""/><Relationship Id="rId7" Type="http://schemas.openxmlformats.org/officeDocument/2006/relationships/image" Target="../media/image6.png"/><Relationship Id="rId8" Type="http://schemas.openxmlformats.org/officeDocument/2006/relationships/slide" Target=""/><Relationship Id="rId9" Type="http://schemas.openxmlformats.org/officeDocument/2006/relationships/image" Target="../media/image7.png"/><Relationship Id="rId10" Type="http://schemas.openxmlformats.org/officeDocument/2006/relationships/audio" Target="../media/drumroll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8.gif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audio" Target="../media/suction.wav"/><Relationship Id="rId12" Type="http://schemas.openxmlformats.org/officeDocument/2006/relationships/audio" Target="../media/suction.wav"/><Relationship Id="rId13" Type="http://schemas.openxmlformats.org/officeDocument/2006/relationships/audio" Target="../media/suction.wav"/><Relationship Id="rId14" Type="http://schemas.openxmlformats.org/officeDocument/2006/relationships/audio" Target="../media/suction.wav"/><Relationship Id="rId15" Type="http://schemas.openxmlformats.org/officeDocument/2006/relationships/audio" Target="../media/suction.wav"/><Relationship Id="rId16" Type="http://schemas.openxmlformats.org/officeDocument/2006/relationships/audio" Target="../media/suction.wav"/><Relationship Id="rId17" Type="http://schemas.openxmlformats.org/officeDocument/2006/relationships/audio" Target="../media/suction.wav"/><Relationship Id="rId18" Type="http://schemas.openxmlformats.org/officeDocument/2006/relationships/audio" Target="../media/suction.wav"/><Relationship Id="rId19" Type="http://schemas.openxmlformats.org/officeDocument/2006/relationships/audio" Target="../media/applause.wav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516720" y="1844640"/>
            <a:ext cx="10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219640" y="3933720"/>
            <a:ext cx="1008000" cy="93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7280" y="2421000"/>
            <a:ext cx="3024360" cy="1008000"/>
          </a:xfrm>
          <a:prstGeom prst="wedgeRectCallout">
            <a:avLst>
              <a:gd name="adj1" fmla="val 42912"/>
              <a:gd name="adj2" fmla="val 110629"/>
            </a:avLst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اهلا  و سهلا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ماذا تحب أن نزرع اليوم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43640" y="4797360"/>
            <a:ext cx="1584360" cy="1405080"/>
            <a:chOff x="6443640" y="4797360"/>
            <a:chExt cx="1584360" cy="1405080"/>
          </a:xfrm>
        </p:grpSpPr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6443640" y="4797360"/>
              <a:ext cx="1584360" cy="14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>
              <a:hlinkClick r:id="rId6" action="ppaction://hlinksldjump"/>
            </p:cNvPr>
            <p:cNvSpPr/>
            <p:nvPr/>
          </p:nvSpPr>
          <p:spPr>
            <a:xfrm>
              <a:off x="6949080" y="5454360"/>
              <a:ext cx="761400" cy="703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2000" spc="-1" strike="noStrike">
                  <a:solidFill>
                    <a:srgbClr val="000000"/>
                  </a:solidFill>
                  <a:latin typeface="Arial"/>
                </a:rPr>
                <a:t>ملفو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340000" y="4437000"/>
            <a:ext cx="1368360" cy="1701720"/>
            <a:chOff x="2340000" y="4437000"/>
            <a:chExt cx="1368360" cy="1701720"/>
          </a:xfrm>
        </p:grpSpPr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2340000" y="4437000"/>
              <a:ext cx="136836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>
              <a:hlinkClick r:id="rId8" action="ppaction://hlinksldjump"/>
            </p:cNvPr>
            <p:cNvSpPr/>
            <p:nvPr/>
          </p:nvSpPr>
          <p:spPr>
            <a:xfrm>
              <a:off x="2589480" y="5434920"/>
              <a:ext cx="807480" cy="7038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2000" spc="-1" strike="noStrike">
                  <a:solidFill>
                    <a:srgbClr val="000000"/>
                  </a:solidFill>
                  <a:latin typeface="Arial"/>
                </a:rPr>
                <a:t>تفــا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-396720" y="4292640"/>
            <a:ext cx="3967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116000" y="1341360"/>
            <a:ext cx="287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هيـا نــزر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0074E-006 L -0.00104 -0.2426 E">
                                      <p:cBhvr>
                                        <p:cTn id="23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95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45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95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43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869760" cy="80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04000" y="486900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020000" y="508464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236000" y="530064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7524720" y="551664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651640" y="494172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724360" y="5229360"/>
            <a:ext cx="505080" cy="47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796000" y="558972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012000" y="5877000"/>
            <a:ext cx="504720" cy="47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48000" y="2133720"/>
            <a:ext cx="2303640" cy="1224000"/>
          </a:xfrm>
          <a:prstGeom prst="wedgeRoundRectCallout">
            <a:avLst>
              <a:gd name="adj1" fmla="val 36078"/>
              <a:gd name="adj2" fmla="val 10265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أحسن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لنجرب شيئاً آخ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" action="ppaction://hlinkshowjump?jump=firstslide"/>
          </p:cNvPr>
          <p:cNvPicPr/>
          <p:nvPr/>
        </p:nvPicPr>
        <p:blipFill>
          <a:blip r:embed="rId11"/>
          <a:stretch/>
        </p:blipFill>
        <p:spPr>
          <a:xfrm>
            <a:off x="1258920" y="5734080"/>
            <a:ext cx="237636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5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869760" cy="808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35280" y="134136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40360" y="1052640"/>
            <a:ext cx="258480" cy="36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140360" y="1484280"/>
            <a:ext cx="258480" cy="370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708360" y="198900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284720" y="2060640"/>
            <a:ext cx="258840" cy="369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4716360" y="1773360"/>
            <a:ext cx="258840" cy="36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995640" y="249228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4716360" y="2421000"/>
            <a:ext cx="258840" cy="369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12000" y="2492280"/>
            <a:ext cx="194472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جيــد جدا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نراك لاحقاً في محاصيل أخر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18:27Z</dcterms:created>
  <dc:creator>wardh</dc:creator>
  <dc:description/>
  <dc:language>en-US</dc:language>
  <cp:lastModifiedBy>wardh</cp:lastModifiedBy>
  <dcterms:modified xsi:type="dcterms:W3CDTF">2009-12-07T15:00:13Z</dcterms:modified>
  <cp:revision>12</cp:revision>
  <dc:subject/>
  <dc:title>Slide 1</dc:title>
</cp:coreProperties>
</file>