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chimes.wav" ContentType="audio/x-wav"/>
  <Override PartName="/ppt/media/suction.wav" ContentType="audio/x-wav"/>
  <Override PartName="/ppt/media/image5.png" ContentType="image/png"/>
  <Override PartName="/ppt/media/image6.png" ContentType="image/png"/>
  <Override PartName="/ppt/media/image7.png" ContentType="image/png"/>
  <Override PartName="/ppt/media/drumroll.wav" ContentType="audio/x-wav"/>
  <Override PartName="/ppt/media/applause.wav" ContentType="audio/x-wav"/>
  <Override PartName="/ppt/media/image8.gif" ContentType="image/gi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A2B-42B0-4DFB-B7B1-756F6CF2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897-17C2-43B7-B906-6CC3810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5F5-A853-4A6E-B613-12B98A23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B52-1DDD-48C0-AC94-C3189650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1E7-AA77-47CA-9F89-5A0E8BA1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4D8-E1F3-46CD-B1D9-13E5DE3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53D-0058-453C-9876-899A6EC5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BDE-274E-4C01-A3BC-D20426EA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B62-A57C-4BEF-A526-41293701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F99-C2C5-46B2-978E-9248FD73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17C-CEE7-4EF3-BD80-8DF22D3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209-14A3-4733-BFB6-A00F3ABF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1F75-3079-4322-B22F-F2C5422E77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audio" Target="../media/drumroll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8.gif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audio" Target="../media/suction.wav"/><Relationship Id="rId14" Type="http://schemas.openxmlformats.org/officeDocument/2006/relationships/audio" Target="../media/suction.wav"/><Relationship Id="rId15" Type="http://schemas.openxmlformats.org/officeDocument/2006/relationships/audio" Target="../media/suction.wav"/><Relationship Id="rId16" Type="http://schemas.openxmlformats.org/officeDocument/2006/relationships/audio" Target="../media/suction.wav"/><Relationship Id="rId17" Type="http://schemas.openxmlformats.org/officeDocument/2006/relationships/audio" Target="../media/suction.wav"/><Relationship Id="rId18" Type="http://schemas.openxmlformats.org/officeDocument/2006/relationships/audio" Target="../media/suction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16720" y="1844640"/>
            <a:ext cx="10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1008000" cy="93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2421000"/>
            <a:ext cx="3024360" cy="1008000"/>
          </a:xfrm>
          <a:prstGeom prst="wedgeRectCallout">
            <a:avLst>
              <a:gd name="adj1" fmla="val 42912"/>
              <a:gd name="adj2" fmla="val 110629"/>
            </a:avLst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اهلا  و سهل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ماذا تحب أن نزرع اليوم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43640" y="4797360"/>
            <a:ext cx="1584360" cy="1405080"/>
            <a:chOff x="6443640" y="4797360"/>
            <a:chExt cx="1584360" cy="1405080"/>
          </a:xfrm>
        </p:grpSpPr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6443640" y="4797360"/>
              <a:ext cx="158436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>
              <a:hlinkClick r:id="rId6" action="ppaction://hlinksldjump"/>
            </p:cNvPr>
            <p:cNvSpPr/>
            <p:nvPr/>
          </p:nvSpPr>
          <p:spPr>
            <a:xfrm>
              <a:off x="6949080" y="5454360"/>
              <a:ext cx="761400" cy="703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ملفو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340000" y="4437000"/>
            <a:ext cx="1368360" cy="1701720"/>
            <a:chOff x="2340000" y="4437000"/>
            <a:chExt cx="1368360" cy="1701720"/>
          </a:xfrm>
        </p:grpSpPr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340000" y="4437000"/>
              <a:ext cx="13683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>
              <a:hlinkClick r:id="rId8" action="ppaction://hlinksldjump"/>
            </p:cNvPr>
            <p:cNvSpPr/>
            <p:nvPr/>
          </p:nvSpPr>
          <p:spPr>
            <a:xfrm>
              <a:off x="2589480" y="5434920"/>
              <a:ext cx="807480" cy="70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تفــا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-396720" y="4292640"/>
            <a:ext cx="3967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16000" y="1341360"/>
            <a:ext cx="287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هيـا نــزر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0074E-006 L -0.00104 -0.2426 E">
                                      <p:cBhvr>
                                        <p:cTn id="23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95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45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95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4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20000" y="5084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236000" y="5300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524720" y="551664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651640" y="494172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724360" y="5229360"/>
            <a:ext cx="505080" cy="47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796000" y="558972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012000" y="5877000"/>
            <a:ext cx="504720" cy="47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2133720"/>
            <a:ext cx="2303640" cy="1224000"/>
          </a:xfrm>
          <a:prstGeom prst="wedgeRoundRectCallout">
            <a:avLst>
              <a:gd name="adj1" fmla="val 36078"/>
              <a:gd name="adj2" fmla="val 102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أحس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لنجرب شيئاً آخ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1258920" y="5734080"/>
            <a:ext cx="23763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35280" y="134136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1052640"/>
            <a:ext cx="258480" cy="36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140360" y="1484280"/>
            <a:ext cx="258480" cy="370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08360" y="198900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284720" y="206064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716360" y="177336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995640" y="249228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4716360" y="2421000"/>
            <a:ext cx="258840" cy="36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2492280"/>
            <a:ext cx="194472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جيــد جد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نراك لاحقاً في محاصيل أخ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18:27Z</dcterms:created>
  <dc:creator>wardh</dc:creator>
  <dc:description/>
  <dc:language>en-US</dc:language>
  <cp:lastModifiedBy>wardh</cp:lastModifiedBy>
  <dcterms:modified xsi:type="dcterms:W3CDTF">2009-12-07T15:00:13Z</dcterms:modified>
  <cp:revision>12</cp:revision>
  <dc:subject/>
  <dc:title>Slide 1</dc:title>
</cp:coreProperties>
</file>