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chimes.wav" ContentType="audio/x-wav"/>
  <Override PartName="/ppt/media/suction.wav" ContentType="audio/x-wav"/>
  <Override PartName="/ppt/media/image5.png" ContentType="image/png"/>
  <Override PartName="/ppt/media/image6.png" ContentType="image/png"/>
  <Override PartName="/ppt/media/image7.png" ContentType="image/png"/>
  <Override PartName="/ppt/media/drumroll.wav" ContentType="audio/x-wav"/>
  <Override PartName="/ppt/media/applause.wav" ContentType="audio/x-wav"/>
  <Override PartName="/ppt/media/image8.gif" ContentType="image/gif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DBBD-ECBB-47A3-B133-633F3169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94CF-A276-4D3A-8182-EFA32292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F3A6-D983-471C-B07D-5567AC0A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E3EC-8337-4DBD-88EF-EAFC6311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46EF-B0AD-400B-9BCF-34A37857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1AFE-B396-49F7-B3B2-EB849E91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BADE-4949-4BDB-BBE2-94499151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1EB3-1123-455E-BB43-0003E0B2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9B5-26DE-4250-BA3A-4D8C35FC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32C5-90A1-4AFB-A585-415A2807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3471-F65E-43B9-A1C5-F3C74D5E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7483-730C-4CA8-B532-1D2AF99D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3D56-7444-495E-83DF-9E78F9A623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" Target=""/><Relationship Id="rId7" Type="http://schemas.openxmlformats.org/officeDocument/2006/relationships/image" Target="../media/image6.png"/><Relationship Id="rId8" Type="http://schemas.openxmlformats.org/officeDocument/2006/relationships/slide" Target=""/><Relationship Id="rId9" Type="http://schemas.openxmlformats.org/officeDocument/2006/relationships/image" Target="../media/image7.png"/><Relationship Id="rId10" Type="http://schemas.openxmlformats.org/officeDocument/2006/relationships/audio" Target="../media/drumroll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8.gif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audio" Target="../media/suction.wav"/><Relationship Id="rId12" Type="http://schemas.openxmlformats.org/officeDocument/2006/relationships/audio" Target="../media/suction.wav"/><Relationship Id="rId13" Type="http://schemas.openxmlformats.org/officeDocument/2006/relationships/audio" Target="../media/suction.wav"/><Relationship Id="rId14" Type="http://schemas.openxmlformats.org/officeDocument/2006/relationships/audio" Target="../media/suction.wav"/><Relationship Id="rId15" Type="http://schemas.openxmlformats.org/officeDocument/2006/relationships/audio" Target="../media/suction.wav"/><Relationship Id="rId16" Type="http://schemas.openxmlformats.org/officeDocument/2006/relationships/audio" Target="../media/suction.wav"/><Relationship Id="rId17" Type="http://schemas.openxmlformats.org/officeDocument/2006/relationships/audio" Target="../media/suction.wav"/><Relationship Id="rId18" Type="http://schemas.openxmlformats.org/officeDocument/2006/relationships/audio" Target="../media/suction.wav"/><Relationship Id="rId19" Type="http://schemas.openxmlformats.org/officeDocument/2006/relationships/audio" Target="../media/applause.wav"/><Relationship Id="rId2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516720" y="1844640"/>
            <a:ext cx="1025640" cy="1025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5219640" y="3933720"/>
            <a:ext cx="1008000" cy="936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27280" y="2421000"/>
            <a:ext cx="3024360" cy="1008000"/>
          </a:xfrm>
          <a:prstGeom prst="wedgeRectCallout">
            <a:avLst>
              <a:gd name="adj1" fmla="val 42912"/>
              <a:gd name="adj2" fmla="val 110629"/>
            </a:avLst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800" spc="-1" strike="noStrike">
                <a:solidFill>
                  <a:srgbClr val="000000"/>
                </a:solidFill>
                <a:latin typeface="Arial"/>
              </a:rPr>
              <a:t>اهلا  و سهلا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800" spc="-1" strike="noStrike">
                <a:solidFill>
                  <a:srgbClr val="000000"/>
                </a:solidFill>
                <a:latin typeface="Arial"/>
              </a:rPr>
              <a:t>ماذا تحب أن نزرع اليوم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443640" y="4797360"/>
            <a:ext cx="1584360" cy="1405080"/>
            <a:chOff x="6443640" y="4797360"/>
            <a:chExt cx="1584360" cy="1405080"/>
          </a:xfrm>
        </p:grpSpPr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6443640" y="4797360"/>
              <a:ext cx="1584360" cy="14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>
              <a:hlinkClick r:id="rId6" action="ppaction://hlinksldjump"/>
            </p:cNvPr>
            <p:cNvSpPr/>
            <p:nvPr/>
          </p:nvSpPr>
          <p:spPr>
            <a:xfrm>
              <a:off x="6949080" y="5454360"/>
              <a:ext cx="761400" cy="7038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KW" sz="2000" spc="-1" strike="noStrike">
                  <a:solidFill>
                    <a:srgbClr val="000000"/>
                  </a:solidFill>
                  <a:latin typeface="Arial"/>
                </a:rPr>
                <a:t>ملفو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2340000" y="4437000"/>
            <a:ext cx="1368360" cy="1701720"/>
            <a:chOff x="2340000" y="4437000"/>
            <a:chExt cx="1368360" cy="1701720"/>
          </a:xfrm>
        </p:grpSpPr>
        <p:pic>
          <p:nvPicPr>
            <p:cNvPr id="49" name="" descr=""/>
            <p:cNvPicPr/>
            <p:nvPr/>
          </p:nvPicPr>
          <p:blipFill>
            <a:blip r:embed="rId7"/>
            <a:stretch/>
          </p:blipFill>
          <p:spPr>
            <a:xfrm>
              <a:off x="2340000" y="4437000"/>
              <a:ext cx="1368360" cy="15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>
              <a:hlinkClick r:id="rId8" action="ppaction://hlinksldjump"/>
            </p:cNvPr>
            <p:cNvSpPr/>
            <p:nvPr/>
          </p:nvSpPr>
          <p:spPr>
            <a:xfrm>
              <a:off x="2589480" y="5434920"/>
              <a:ext cx="807480" cy="7038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KW" sz="2000" spc="-1" strike="noStrike">
                  <a:solidFill>
                    <a:srgbClr val="000000"/>
                  </a:solidFill>
                  <a:latin typeface="Arial"/>
                </a:rPr>
                <a:t>تفــا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-396720" y="4292640"/>
            <a:ext cx="3967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116000" y="1341360"/>
            <a:ext cx="2879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هيـا نــزر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0074E-006 L -0.00104 -0.2426 E">
                                      <p:cBhvr>
                                        <p:cTn id="23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5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3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495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45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95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5434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435640" y="3860640"/>
            <a:ext cx="869760" cy="808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04000" y="4869000"/>
            <a:ext cx="504720" cy="474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020000" y="5084640"/>
            <a:ext cx="504720" cy="474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7236000" y="5300640"/>
            <a:ext cx="504720" cy="474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7524720" y="5516640"/>
            <a:ext cx="504720" cy="474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5651640" y="4941720"/>
            <a:ext cx="504720" cy="474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5724360" y="5229360"/>
            <a:ext cx="505080" cy="474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5796000" y="5589720"/>
            <a:ext cx="504720" cy="474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012000" y="5877000"/>
            <a:ext cx="504720" cy="47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348000" y="2133720"/>
            <a:ext cx="2303640" cy="1224000"/>
          </a:xfrm>
          <a:prstGeom prst="wedgeRoundRectCallout">
            <a:avLst>
              <a:gd name="adj1" fmla="val 36078"/>
              <a:gd name="adj2" fmla="val 10265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أحسن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000000"/>
                </a:solidFill>
                <a:latin typeface="Arial"/>
              </a:rPr>
              <a:t>لنجرب شيئاً آخ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" action="ppaction://hlinkshowjump?jump=firstslide"/>
          </p:cNvPr>
          <p:cNvPicPr/>
          <p:nvPr/>
        </p:nvPicPr>
        <p:blipFill>
          <a:blip r:embed="rId11"/>
          <a:stretch/>
        </p:blipFill>
        <p:spPr>
          <a:xfrm>
            <a:off x="1258920" y="5734080"/>
            <a:ext cx="237636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500"/>
                            </p:stCondLst>
                            <p:childTnLst>
                              <p:par>
                                <p:cTn id="1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435640" y="3860640"/>
            <a:ext cx="869760" cy="808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635280" y="1341360"/>
            <a:ext cx="258840" cy="370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40360" y="1052640"/>
            <a:ext cx="258480" cy="369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4140360" y="1484280"/>
            <a:ext cx="258480" cy="370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3708360" y="1989000"/>
            <a:ext cx="258840" cy="370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284720" y="2060640"/>
            <a:ext cx="258840" cy="369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4716360" y="1773360"/>
            <a:ext cx="258840" cy="369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3995640" y="2492280"/>
            <a:ext cx="258840" cy="370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4716360" y="2421000"/>
            <a:ext cx="258840" cy="369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12000" y="2492280"/>
            <a:ext cx="1944720" cy="1224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800" spc="-1" strike="noStrike">
                <a:solidFill>
                  <a:srgbClr val="000000"/>
                </a:solidFill>
                <a:latin typeface="Arial"/>
              </a:rPr>
              <a:t>جيــد جدا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800" spc="-1" strike="noStrike">
                <a:solidFill>
                  <a:srgbClr val="000000"/>
                </a:solidFill>
                <a:latin typeface="Arial"/>
              </a:rPr>
              <a:t>نراك لاحقاً في محاصيل أخر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500"/>
                            </p:stCondLst>
                            <p:childTnLst>
                              <p:par>
                                <p:cTn id="1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3:18:27Z</dcterms:created>
  <dc:creator>wardh</dc:creator>
  <dc:description/>
  <dc:language>en-US</dc:language>
  <cp:lastModifiedBy>wardh</cp:lastModifiedBy>
  <dcterms:modified xsi:type="dcterms:W3CDTF">2009-12-07T15:00:13Z</dcterms:modified>
  <cp:revision>12</cp:revision>
  <dc:subject/>
  <dc:title>Slide 1</dc:title>
</cp:coreProperties>
</file>