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24.png" ContentType="image/png"/>
  <Override PartName="/ppt/media/image11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9.jpeg" ContentType="image/jpeg"/>
  <Override PartName="/ppt/media/image8.png" ContentType="image/png"/>
  <Override PartName="/ppt/media/image39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31.png" ContentType="image/png"/>
  <Override PartName="/ppt/media/image43.png" ContentType="image/png"/>
  <Override PartName="/ppt/media/image23.png" ContentType="image/png"/>
  <Override PartName="/ppt/media/image45.png" ContentType="image/png"/>
  <Override PartName="/ppt/media/applause.wav" ContentType="audio/x-wav"/>
  <Override PartName="/ppt/media/image44.png" ContentType="image/png"/>
  <Override PartName="/ppt/media/image13.jpeg" ContentType="image/jpeg"/>
  <Override PartName="/ppt/media/image40.jpeg" ContentType="image/jpeg"/>
  <Override PartName="/ppt/media/image46.png" ContentType="image/png"/>
  <Override PartName="/ppt/media/image48.jpeg" ContentType="image/jpeg"/>
  <Override PartName="/ppt/media/image49.jpeg" ContentType="image/jpeg"/>
  <Override PartName="/ppt/media/bomb.wav" ContentType="audio/x-wav"/>
  <Override PartName="/ppt/media/wind.wav" ContentType="audio/x-wav"/>
  <Override PartName="/ppt/media/image37.png" ContentType="image/png"/>
  <Override PartName="/ppt/media/image34.jpeg" ContentType="image/jpeg"/>
  <Override PartName="/ppt/media/image7.png" ContentType="image/png"/>
  <Override PartName="/ppt/media/image4.gif" ContentType="image/gif"/>
  <Override PartName="/ppt/media/image35.jpeg" ContentType="image/jpeg"/>
  <Override PartName="/ppt/media/image4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36.png" ContentType="image/png"/>
  <Override PartName="/ppt/media/image38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ED6C-1C49-4A5D-997C-07DC5669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A092-A0C9-46FD-9CA4-F518107C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754F-3DF9-4C11-9711-C4B32C37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1205-D749-4960-AA05-66D81359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57E-BA8C-489D-8CD2-E0CFB8FB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6E1-4A8A-40AE-ABED-B107FB12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A902-A9C3-4155-A721-2C93ED53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82E-3EF4-4C75-A25E-60A0C3EA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48F-0E04-4687-9E89-90CFA85A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D73F-4028-4BD4-AFC1-47E048D0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7509-CCFD-4EF1-9E2F-819018DA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04ED-BCD3-43B8-855B-A011B562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74C4-2EB2-46AC-AC80-78E50B549B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4.xml"/><Relationship Id="rId3" Type="http://schemas.openxmlformats.org/officeDocument/2006/relationships/image" Target="../media/image19.gif"/><Relationship Id="rId4" Type="http://schemas.openxmlformats.org/officeDocument/2006/relationships/image" Target="../media/image8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image" Target="../media/image8.png"/><Relationship Id="rId7" Type="http://schemas.openxmlformats.org/officeDocument/2006/relationships/slide" Target=""/><Relationship Id="rId8" Type="http://schemas.openxmlformats.org/officeDocument/2006/relationships/image" Target="../media/image17.png"/><Relationship Id="rId9" Type="http://schemas.openxmlformats.org/officeDocument/2006/relationships/slide" Target="slide19.xml"/><Relationship Id="rId10" Type="http://schemas.openxmlformats.org/officeDocument/2006/relationships/image" Target="../media/image30.png"/><Relationship Id="rId11" Type="http://schemas.openxmlformats.org/officeDocument/2006/relationships/slide" Target="slide20.xml"/><Relationship Id="rId12" Type="http://schemas.openxmlformats.org/officeDocument/2006/relationships/image" Target="../media/image31.png"/><Relationship Id="rId13" Type="http://schemas.openxmlformats.org/officeDocument/2006/relationships/slide" Target="slide18.xml"/><Relationship Id="rId14" Type="http://schemas.openxmlformats.org/officeDocument/2006/relationships/image" Target="../media/image32.png"/><Relationship Id="rId15" Type="http://schemas.openxmlformats.org/officeDocument/2006/relationships/slide" Target="slide21.xml"/><Relationship Id="rId16" Type="http://schemas.openxmlformats.org/officeDocument/2006/relationships/image" Target="../media/image33.png"/><Relationship Id="rId1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" Target="slide17.xml"/><Relationship Id="rId4" Type="http://schemas.openxmlformats.org/officeDocument/2006/relationships/image" Target="../media/image36.png"/><Relationship Id="rId5" Type="http://schemas.openxmlformats.org/officeDocument/2006/relationships/slide" Target="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" Target="slide17.xml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" Target="slide17.xml"/><Relationship Id="rId4" Type="http://schemas.openxmlformats.org/officeDocument/2006/relationships/image" Target="../media/image36.png"/><Relationship Id="rId5" Type="http://schemas.openxmlformats.org/officeDocument/2006/relationships/slide" Target="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" Target="slide17.xml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46.png"/><Relationship Id="rId10" Type="http://schemas.openxmlformats.org/officeDocument/2006/relationships/image" Target="../media/image17.png"/><Relationship Id="rId11" Type="http://schemas.openxmlformats.org/officeDocument/2006/relationships/image" Target="../media/image47.png"/><Relationship Id="rId12" Type="http://schemas.openxmlformats.org/officeDocument/2006/relationships/audio" Target="../media/applause.wav"/><Relationship Id="rId13" Type="http://schemas.openxmlformats.org/officeDocument/2006/relationships/audio" Target="../media/bomb.wav"/><Relationship Id="rId14" Type="http://schemas.openxmlformats.org/officeDocument/2006/relationships/audio" Target="../media/bomb.wav"/><Relationship Id="rId15" Type="http://schemas.openxmlformats.org/officeDocument/2006/relationships/audio" Target="../media/bomb.wav"/><Relationship Id="rId1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" Target=""/><Relationship Id="rId3" Type="http://schemas.openxmlformats.org/officeDocument/2006/relationships/image" Target="../media/image17.png"/><Relationship Id="rId4" Type="http://schemas.openxmlformats.org/officeDocument/2006/relationships/image" Target="../media/image49.jpe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" Target="slide4.xml"/><Relationship Id="rId9" Type="http://schemas.openxmlformats.org/officeDocument/2006/relationships/slide" Target="slide13.xml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1.jpeg"/><Relationship Id="rId17" Type="http://schemas.openxmlformats.org/officeDocument/2006/relationships/image" Target="../media/image12.jpeg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image" Target="../media/image15.jpeg"/><Relationship Id="rId21" Type="http://schemas.openxmlformats.org/officeDocument/2006/relationships/image" Target="../media/image16.jpeg"/><Relationship Id="rId22" Type="http://schemas.openxmlformats.org/officeDocument/2006/relationships/slide" Target=""/><Relationship Id="rId23" Type="http://schemas.openxmlformats.org/officeDocument/2006/relationships/image" Target="../media/image17.png"/><Relationship Id="rId2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4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204640"/>
            <a:ext cx="561636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الطالبة </a:t>
            </a:r>
            <a:r>
              <a:rPr b="0" lang="ar-KW" sz="4400" spc="-1" strike="noStrike">
                <a:solidFill>
                  <a:srgbClr val="cc0000"/>
                </a:solidFill>
                <a:latin typeface="Arial"/>
              </a:rPr>
              <a:t>مريم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KW" sz="4400" spc="-1" strike="noStrike">
                <a:solidFill>
                  <a:srgbClr val="006600"/>
                </a:solidFill>
                <a:latin typeface="Arial"/>
              </a:rPr>
              <a:t>جاسم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KW" sz="4400" spc="-1" strike="noStrike">
                <a:solidFill>
                  <a:srgbClr val="ffffff"/>
                </a:solidFill>
                <a:latin typeface="Arial"/>
              </a:rPr>
              <a:t>الفرح</a:t>
            </a:r>
            <a:br>
              <a:rPr sz="4400"/>
            </a:b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بمقرر حاسوب (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39640" y="4076280"/>
            <a:ext cx="360036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600" spc="-1" strike="noStrike">
                <a:solidFill>
                  <a:srgbClr val="000000"/>
                </a:solidFill>
                <a:latin typeface="Arial"/>
              </a:rPr>
              <a:t>تقــد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6720" y="2276640"/>
            <a:ext cx="2016000" cy="2001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30492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ادا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63640" y="1413000"/>
            <a:ext cx="482436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البطالة المقنع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سيادة  السلطة المكتب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عدم وضوح الوصف الوظيفي للعاملين في الاجهزة الادار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عدم وضوح الاهداف الادرية للمؤسسات من حيث الجهاز الاداري والفن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372360" y="6206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589720"/>
            <a:ext cx="1368360" cy="68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39640" y="1844640"/>
            <a:ext cx="3024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4000"/>
                            </p:stCondLst>
                            <p:childTnLst>
                              <p:par>
                                <p:cTn id="5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6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7000"/>
                            </p:stCondLst>
                            <p:childTnLst>
                              <p:par>
                                <p:cTn id="6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اجتماع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92360" y="1412640"/>
            <a:ext cx="4680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السماح لقيام مؤسسات المجتمع المدني في نشر الوعي والثقا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وافر مؤسسات الرعاية للفئات الخاصة وذوي الاحتياجات الخاص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وافر وسائل الترفيه الاجتماعية لاستغلال أوقات الفراغ لدى الشباب بصورة مفي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5697360"/>
            <a:ext cx="1368360" cy="68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686640" y="6462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11280" y="1844640"/>
            <a:ext cx="33130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600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7000"/>
                            </p:stCondLst>
                            <p:childTnLst>
                              <p:par>
                                <p:cTn id="6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40000" y="1844640"/>
            <a:ext cx="5040360" cy="3747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4221000"/>
            <a:ext cx="9144000" cy="3934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35280" cy="1204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484360" y="692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 u="sng">
                <a:solidFill>
                  <a:srgbClr val="ffffff"/>
                </a:solidFill>
                <a:uFillTx/>
                <a:latin typeface="Arial"/>
              </a:rPr>
              <a:t>ملامح من عمران الكويت قديما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24000" y="587700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6" dur="22828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28284"/>
                            </p:stCondLst>
                            <p:childTnLst>
                              <p:par>
                                <p:cTn id="6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29284"/>
                            </p:stCondLst>
                            <p:childTnLst>
                              <p:par>
                                <p:cTn id="6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4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26920" y="1700280"/>
            <a:ext cx="7490160" cy="4176720"/>
          </a:xfrm>
          <a:prstGeom prst="rect">
            <a:avLst/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66"/>
                </a:solidFill>
                <a:uFillTx/>
                <a:latin typeface="Arial"/>
              </a:rPr>
              <a:t>لمحات من تاريخ الكو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280" y="1773360"/>
            <a:ext cx="7272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كانت تسمى في السابق الكوت وتعني القلعة ويقال ان تسميتها ترجع الى اصل برتغالي ومنهم من قال اصلها هندي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تأسست الكويت كدولة لها انشطتها الخاصة بها وعلاقاتها في القرن الثامن عش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لم تقع الكويت تحت الحكم العثماني كما هو الحال في العراق لذلك لم يرفع علم الدولة العثمانيه في الكويت ولم يكن هناك والي عثماني في البلا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حدثت موقعة الجهراء الشهيره في عام </a:t>
            </a: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1920</a:t>
            </a: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 وكانت بين الكويت وبين السعود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99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948360" y="6922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573408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7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500"/>
                            </p:stCondLst>
                            <p:childTnLst>
                              <p:par>
                                <p:cTn id="7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3000"/>
                            </p:stCondLst>
                            <p:childTnLst>
                              <p:par>
                                <p:cTn id="7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1197000"/>
            <a:ext cx="5761080" cy="4319640"/>
          </a:xfrm>
          <a:prstGeom prst="rect">
            <a:avLst/>
          </a:prstGeom>
          <a:solidFill>
            <a:srgbClr val="bbe0e3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66"/>
                </a:solidFill>
                <a:uFillTx/>
                <a:latin typeface="Arial"/>
              </a:rPr>
              <a:t>ابرز الخصائص الجغرافية للكو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5688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وقع الكويت : تقع في الشمال الغربي للخليج العرب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سطح الكويت المستوي ساعدها في سرعة العمران لعدم وجود اي معوقات كالجبال او انها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المناخ واحد في جميع مناطق الكويت لصغر حجمها لذا لا يمكن ان نقول ان المناخ الكويت متعد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سطح الكويت المستوي ساعد الغزو العراقي بالانتشار بسرعه لعدم وجود اي عوائق طبيع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837560" y="54936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558972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7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11280" y="1773360"/>
            <a:ext cx="8064360" cy="4464000"/>
          </a:xfrm>
          <a:prstGeom prst="rect">
            <a:avLst/>
          </a:prstGeom>
          <a:solidFill>
            <a:srgbClr val="00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ملامح التغير الديموغرافي في الكو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Arial"/>
              </a:rPr>
              <a:t>علم الديموغرافيا : هوعلم يختص بدراسة السكان بتغييرات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Arial"/>
              </a:rPr>
              <a:t>الانفجار السكاني له تأثيرات جانبية على العالم سواء فمثلاً تزداد الهجرات من دول كشرق آسيا وتتكتل في دول اخرى كالخليج مثل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Arial"/>
              </a:rPr>
              <a:t>يعتبر السكان والارض و النظام اساس تكوين المجتم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Arial"/>
              </a:rPr>
              <a:t>ضرورة التغيير السكاني في التركيبة السكانية في الكويت وذلك لزيادة المواطنين وتقليل عدد الواف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99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53560" y="646200"/>
            <a:ext cx="406080" cy="406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573408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3000"/>
                            </p:stCondLst>
                            <p:childTnLst>
                              <p:par>
                                <p:cTn id="8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4360" y="1844640"/>
            <a:ext cx="7343640" cy="2879640"/>
          </a:xfrm>
          <a:prstGeom prst="rect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cc0000"/>
                </a:solidFill>
                <a:uFillTx/>
                <a:latin typeface="Arial"/>
              </a:rPr>
              <a:t>الملامح الاقتصادية في الكو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7570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66"/>
                </a:solidFill>
                <a:latin typeface="Arial"/>
              </a:rPr>
              <a:t>النفط يعتبر عصب الحياة الاقتصادية في عالمنا اليو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66"/>
                </a:solidFill>
                <a:latin typeface="Arial"/>
              </a:rPr>
              <a:t>المقومات البشرية في التنمية الاقتصاد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66"/>
                </a:solidFill>
                <a:latin typeface="Arial"/>
              </a:rPr>
              <a:t>خطر الاعتماد على مصدر واح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99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550280" y="719280"/>
            <a:ext cx="406440" cy="406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6560" y="5661000"/>
            <a:ext cx="79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27280" y="1125360"/>
            <a:ext cx="6192720" cy="4391280"/>
          </a:xfrm>
          <a:prstGeom prst="rect">
            <a:avLst/>
          </a:prstGeom>
          <a:solidFill>
            <a:srgbClr val="80008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66"/>
                </a:solidFill>
                <a:uFillTx/>
                <a:latin typeface="Arial"/>
              </a:rPr>
              <a:t>علاقات دولة الكويت بدول العا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علاقاتها المتميزة بدول الخليج العرب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علاقاتها المتميزة بالدول العربية الشقي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علاقاتها المتميزة بالدول الاسلام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علاقاتها المتميزة بالدول الصدي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7885080" y="2602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5732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116000" y="2276640"/>
            <a:ext cx="1224000" cy="874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187280" y="3573360"/>
            <a:ext cx="1008360" cy="757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187280" y="1052640"/>
            <a:ext cx="1008360" cy="890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258920" y="4653000"/>
            <a:ext cx="9367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2500"/>
                            </p:stCondLst>
                            <p:childTnLst>
                              <p:par>
                                <p:cTn id="8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3500"/>
                            </p:stCondLst>
                            <p:childTnLst>
                              <p:par>
                                <p:cTn id="9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500"/>
                            </p:stCondLst>
                            <p:childTnLst>
                              <p:par>
                                <p:cTn id="9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500"/>
                            </p:stCondLst>
                            <p:childTnLst>
                              <p:par>
                                <p:cTn id="9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6500"/>
                            </p:stCondLst>
                            <p:childTnLst>
                              <p:par>
                                <p:cTn id="9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المحور الخليج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32360" y="2060280"/>
            <a:ext cx="3827520" cy="28810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انضمام الكويت لمجلس التعاون سنة 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1981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. واول أمين عام للمجلس كان عبدالله بشارة ، ويضم المجلس (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6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) دو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3683160" cy="27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324000" y="333360"/>
            <a:ext cx="8569080" cy="6191280"/>
          </a:xfrm>
          <a:prstGeom prst="rect">
            <a:avLst/>
          </a:prstGeom>
          <a:noFill/>
          <a:ln w="69840">
            <a:solidFill>
              <a:srgbClr val="8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5373720"/>
            <a:ext cx="1224000" cy="1062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551664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2000"/>
                            </p:stCondLst>
                            <p:childTnLst>
                              <p:par>
                                <p:cTn id="9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500"/>
                            </p:stCondLst>
                            <p:childTnLst>
                              <p:par>
                                <p:cTn id="9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المحور العرب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32000" y="1915920"/>
            <a:ext cx="3754440" cy="360036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نضمت الكويت الى جامعة الدول العربية سنة 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1961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، حيث تم انشاؤه عام 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م وعدد اعضائها (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) دولة. والأمين العام هو عمرو موس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3816360" cy="2735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5516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76360" y="5373720"/>
            <a:ext cx="12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800" spc="-1" strike="noStrike">
                <a:solidFill>
                  <a:srgbClr val="cc0000"/>
                </a:solidFill>
                <a:latin typeface="Arial"/>
              </a:rPr>
              <a:t>الكويت </a:t>
            </a:r>
            <a:r>
              <a:rPr b="1" i="1" lang="ar-KW" sz="4800" spc="-1" strike="noStrike">
                <a:solidFill>
                  <a:srgbClr val="000000"/>
                </a:solidFill>
                <a:latin typeface="Arial"/>
              </a:rPr>
              <a:t>ومسيرتها</a:t>
            </a:r>
            <a:r>
              <a:rPr b="1" i="1" lang="ar-KW" sz="4800" spc="-1" strike="noStrike">
                <a:solidFill>
                  <a:srgbClr val="006600"/>
                </a:solidFill>
                <a:latin typeface="Arial"/>
              </a:rPr>
              <a:t> التنمو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619280" y="3429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101080" y="350028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484360" cy="248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68360" y="400536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1800" spc="-1" strike="noStrike" u="sng">
                <a:solidFill>
                  <a:srgbClr val="cc0000"/>
                </a:solidFill>
                <a:uFillTx/>
                <a:latin typeface="Arial"/>
              </a:rPr>
              <a:t>- - - - - - - - - - - - - </a:t>
            </a:r>
            <a:r>
              <a:rPr b="1" lang="ar-KW" sz="1800" spc="-1" strike="noStrike" u="sng">
                <a:solidFill>
                  <a:srgbClr val="000000"/>
                </a:solidFill>
                <a:uFillTx/>
                <a:latin typeface="Arial"/>
              </a:rPr>
              <a:t>- - - - - - - - - - - - -</a:t>
            </a:r>
            <a:r>
              <a:rPr b="1" lang="ar-KW" sz="1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ar-KW" sz="1800" spc="-1" strike="noStrike" u="sng">
                <a:solidFill>
                  <a:srgbClr val="006600"/>
                </a:solidFill>
                <a:uFillTx/>
                <a:latin typeface="Arial"/>
              </a:rPr>
              <a:t>- - - - - - - - - - - - -</a:t>
            </a:r>
            <a:r>
              <a:rPr b="1" lang="ar-KW" sz="1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995640" y="981000"/>
            <a:ext cx="1800360" cy="1657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1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41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6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المحور الاسلام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27280" y="1557000"/>
            <a:ext cx="4259160" cy="4105080"/>
          </a:xfrm>
          <a:prstGeom prst="rect">
            <a:avLst/>
          </a:prstGeom>
          <a:solidFill>
            <a:srgbClr val="ffff9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تم انشاء منظمة العالم الاسلامي عام 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م بسبب محاول اليهود في احراق القدس، وعدد اعضاؤها (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) دو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والأمين العام لمنظمة العالم الاسلامي هو اكمل الدين اوغلو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316320" cy="3456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8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5373720"/>
            <a:ext cx="1224000" cy="1062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558972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المحور العالم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7640" y="2060280"/>
            <a:ext cx="3970080" cy="3097080"/>
          </a:xfrm>
          <a:prstGeom prst="rect">
            <a:avLst/>
          </a:prstGeom>
          <a:solidFill>
            <a:srgbClr val="ff66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00"/>
                </a:solidFill>
                <a:latin typeface="Arial"/>
              </a:rPr>
              <a:t>انضمت الكويت لمنظمة الامم المتحدة الذي تأسس في عام </a:t>
            </a:r>
            <a:r>
              <a:rPr b="1" lang="ar-KW" sz="32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1" lang="ar-KW" sz="3200" spc="-1" strike="noStrike">
                <a:solidFill>
                  <a:srgbClr val="000000"/>
                </a:solidFill>
                <a:latin typeface="Arial"/>
              </a:rPr>
              <a:t>م ومقرها نيويور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00"/>
                </a:solidFill>
                <a:latin typeface="Arial"/>
              </a:rPr>
              <a:t>والامين العام لمنظمة الامم المتحدة هو ( باكيمو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55640" y="2276640"/>
            <a:ext cx="3240000" cy="27478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8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5516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76360" y="5373720"/>
            <a:ext cx="12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867280" y="333000"/>
            <a:ext cx="2881440" cy="1582920"/>
          </a:xfrm>
          <a:prstGeom prst="rect">
            <a:avLst/>
          </a:prstGeom>
          <a:solidFill>
            <a:srgbClr val="bbe0e3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أين تقع دولة الكويت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724360" y="2492280"/>
            <a:ext cx="284400" cy="284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3348000" y="27082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6948360" y="299736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3995640" y="907920"/>
            <a:ext cx="1130400" cy="1150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179280" y="6858000"/>
            <a:ext cx="2887920" cy="2887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179280" y="6858000"/>
            <a:ext cx="2887920" cy="2887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179280" y="6858000"/>
            <a:ext cx="2887920" cy="2887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0"/>
          <a:stretch/>
        </p:blipFill>
        <p:spPr>
          <a:xfrm>
            <a:off x="395280" y="5516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1"/>
          <a:stretch/>
        </p:blipFill>
        <p:spPr>
          <a:xfrm>
            <a:off x="1908000" y="5662440"/>
            <a:ext cx="64800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09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115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8" dur="1155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0" dur="115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2" dur="115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10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omb.wav"/>
                                        </p:tgtEl>
                                      </p:cMediaNode>
                                    </p:audio>
                                    <p:animMotion origin="layout" path="M -0.00035 0.22407 L 0.00764 -0.83635 E">
                                      <p:cBhvr>
                                        <p:cTn id="110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9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110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mb.wav"/>
                                        </p:tgtEl>
                                      </p:cMediaNode>
                                    </p:audio>
                                    <p:animMotion origin="layout" path="M -0.00035 0.22407 L 0.00764 -0.83635 E">
                                      <p:cBhvr>
                                        <p:cTn id="1113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11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mb.wav"/>
                                        </p:tgtEl>
                                      </p:cMediaNode>
                                    </p:audio>
                                    <p:animMotion origin="layout" path="M -0.00035 0.22407 L 0.00764 -0.83635 E">
                                      <p:cBhvr>
                                        <p:cTn id="1118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9280" y="587700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5400" spc="-1" strike="noStrike" u="sng">
                <a:solidFill>
                  <a:srgbClr val="cc0000"/>
                </a:solidFill>
                <a:uFillTx/>
                <a:latin typeface="Arial"/>
              </a:rPr>
              <a:t>- - حفـــظ الله - 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429000"/>
            <a:ext cx="244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cc0000"/>
                </a:solidFill>
                <a:latin typeface="Arial"/>
              </a:rPr>
              <a:t>الكــوي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00720" y="47991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cc0000"/>
                </a:solidFill>
                <a:latin typeface="Arial"/>
              </a:rPr>
              <a:t>وأميرهـ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429264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cc0000"/>
                </a:solidFill>
                <a:latin typeface="Arial"/>
              </a:rPr>
              <a:t>وولي عهد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0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124" dur="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46"/>
            </a:gs>
            <a:gs pos="100000">
              <a:srgbClr val="cc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532720" y="10526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067280" y="36450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094280" y="234936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021200" y="9349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532720" y="36450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8532720" y="23493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21964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مدخل الى التن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2360" y="22766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لمحات من تاريخ الكوي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3497400"/>
            <a:ext cx="35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أبرز الخصائص الجغراف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836640"/>
            <a:ext cx="36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لامح التغير الديموغراف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2276640"/>
            <a:ext cx="34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عض الملامح الاقتصاد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573360"/>
            <a:ext cx="3708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علاقات الكويت بدول العال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8459640" y="47973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940360" y="46530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ffffff"/>
                </a:solidFill>
                <a:latin typeface="Arial"/>
              </a:rPr>
              <a:t>التقـــو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4067280" y="465300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63640" y="4581360"/>
            <a:ext cx="21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000" spc="-1" strike="noStrike">
                <a:solidFill>
                  <a:srgbClr val="ffffff"/>
                </a:solidFill>
                <a:latin typeface="Arial"/>
              </a:rPr>
              <a:t>المرئي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260280"/>
            <a:ext cx="8785440" cy="6264360"/>
          </a:xfrm>
          <a:prstGeom prst="rect">
            <a:avLst/>
          </a:prstGeom>
          <a:noFill/>
          <a:ln w="6984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500"/>
                            </p:stCondLst>
                            <p:childTnLst>
                              <p:par>
                                <p:cTn id="1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مدخل الى التن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867280" y="1557360"/>
            <a:ext cx="25164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التخل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796000" y="2852640"/>
            <a:ext cx="266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المؤشرات السياس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867280" y="4292640"/>
            <a:ext cx="266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المؤشرات الاقتصاد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42920" y="1557360"/>
            <a:ext cx="266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المؤشرات الصح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71640" y="2997360"/>
            <a:ext cx="26604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المؤشرات التعليم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42920" y="4292640"/>
            <a:ext cx="266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المؤشرات الادار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492360" y="5589720"/>
            <a:ext cx="26607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المؤشرات الاجتماع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6"/>
          <a:stretch/>
        </p:blipFill>
        <p:spPr>
          <a:xfrm>
            <a:off x="3203640" y="3716280"/>
            <a:ext cx="3254400" cy="198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7"/>
          <a:stretch/>
        </p:blipFill>
        <p:spPr>
          <a:xfrm rot="1277400">
            <a:off x="4716000" y="765000"/>
            <a:ext cx="3322800" cy="3135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8"/>
          <a:stretch/>
        </p:blipFill>
        <p:spPr>
          <a:xfrm rot="19903800">
            <a:off x="1187280" y="980640"/>
            <a:ext cx="3708720" cy="2781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9"/>
          <a:stretch/>
        </p:blipFill>
        <p:spPr>
          <a:xfrm>
            <a:off x="3203640" y="765000"/>
            <a:ext cx="3228840" cy="3067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0"/>
          <a:stretch/>
        </p:blipFill>
        <p:spPr>
          <a:xfrm rot="1379400">
            <a:off x="1476360" y="299700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1"/>
          <a:stretch/>
        </p:blipFill>
        <p:spPr>
          <a:xfrm rot="19935000">
            <a:off x="4572000" y="3068280"/>
            <a:ext cx="3529080" cy="2584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250920" y="587700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500"/>
                            </p:stCondLst>
                            <p:childTnLst>
                              <p:par>
                                <p:cTn id="23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000"/>
                            </p:stCondLst>
                            <p:childTnLst>
                              <p:par>
                                <p:cTn id="24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8500"/>
                            </p:stCondLst>
                            <p:childTnLst>
                              <p:par>
                                <p:cTn id="24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9000"/>
                            </p:stCondLst>
                            <p:childTnLst>
                              <p:par>
                                <p:cTn id="250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99640" y="692280"/>
            <a:ext cx="75596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 u="sng">
                <a:solidFill>
                  <a:srgbClr val="990000"/>
                </a:solidFill>
                <a:uFillTx/>
                <a:latin typeface="Arial"/>
              </a:rPr>
              <a:t>التخلف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 : حالة ناجمة عن تب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 الدول الفقيرة للدول الغنية ورب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قتصادها ب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9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 u="sng">
                <a:solidFill>
                  <a:srgbClr val="990000"/>
                </a:solidFill>
                <a:uFillTx/>
                <a:latin typeface="Arial"/>
              </a:rPr>
              <a:t>عقبات التنمية في الدول العالم الثالث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لدكتـــاتوريــة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- الفقر والحروب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-الجه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2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لبطالة المقنعة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- البطالة السافرة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KW" sz="2900" spc="-1" strike="noStrike">
                <a:solidFill>
                  <a:srgbClr val="000000"/>
                </a:solidFill>
                <a:latin typeface="Arial"/>
              </a:rPr>
              <a:t>العمالة الاجنبية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 u="sng">
                <a:solidFill>
                  <a:srgbClr val="990000"/>
                </a:solidFill>
                <a:uFillTx/>
                <a:latin typeface="Arial"/>
              </a:rPr>
              <a:t>تأثير الاستعمار على الدول النامية</a:t>
            </a:r>
            <a:r>
              <a:rPr b="0" lang="ar-KW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5516640"/>
            <a:ext cx="136836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سياس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7632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جود النظام الديمقراط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احترام الحقوق المدنية والسياس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الانسانية للنا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حماية حرية الصحافة والإعلا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حماية الحريات الأساسية للأفرا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عدم الانحياز لتكتل او حزب واح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43640" y="6206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516640"/>
            <a:ext cx="1368360" cy="684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755640" y="1628640"/>
            <a:ext cx="3228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اقتصا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35280" y="1268280"/>
            <a:ext cx="47642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اعتماد الدولة على مصد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حيد للدخ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ورط الدولة بالديون الاقتصاد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بعية اقتصاد الدولة لاقتصادات الدول المتقدم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ستوى دخل الفر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وفر الامن الاقتصاد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659640" y="6206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516640"/>
            <a:ext cx="1368360" cy="684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39640" y="2133720"/>
            <a:ext cx="3240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5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5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50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850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95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صح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50920" y="1557360"/>
            <a:ext cx="46083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0000"/>
                </a:solidFill>
                <a:latin typeface="Arial"/>
              </a:rPr>
              <a:t>مدى انتشار الاوبئة الفتاكة في الدول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0000"/>
                </a:solidFill>
                <a:latin typeface="Arial"/>
              </a:rPr>
              <a:t>معدل المواليد والوفيات في الدول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0000"/>
                </a:solidFill>
                <a:latin typeface="Arial"/>
              </a:rPr>
              <a:t>نسبة عدد الأسِرة في المستشفيات وعدد الأطباء والطاقم الطب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443640" y="6206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516640"/>
            <a:ext cx="1368360" cy="684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95280" y="1989000"/>
            <a:ext cx="3456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5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5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5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500"/>
                            </p:stCondLst>
                            <p:childTnLst>
                              <p:par>
                                <p:cTn id="5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تعلي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19280" y="1341360"/>
            <a:ext cx="49179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800080"/>
                </a:solidFill>
                <a:latin typeface="Arial"/>
              </a:rPr>
              <a:t>معدلات الامية في المجتم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800080"/>
                </a:solidFill>
                <a:latin typeface="Arial"/>
              </a:rPr>
              <a:t>مدى مواءمة النظام التعليمي للتطور التربو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800080"/>
                </a:solidFill>
                <a:latin typeface="Arial"/>
              </a:rPr>
              <a:t>ارتفاع معدلات البطالة بين الخريج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800080"/>
                </a:solidFill>
                <a:latin typeface="Arial"/>
              </a:rPr>
              <a:t>معدل التسرب الدراسي وعدم اكمال الطلبة للتعليم الاساس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588000" y="69228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734080"/>
            <a:ext cx="1368360" cy="684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39640" y="1963800"/>
            <a:ext cx="32403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000"/>
                            </p:stCondLst>
                            <p:childTnLst>
                              <p:par>
                                <p:cTn id="5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6:46:23Z</dcterms:created>
  <dc:creator>wardh</dc:creator>
  <dc:description/>
  <dc:language>en-US</dc:language>
  <cp:lastModifiedBy>wardh</cp:lastModifiedBy>
  <dcterms:modified xsi:type="dcterms:W3CDTF">2010-01-06T15:54:23Z</dcterms:modified>
  <cp:revision>27</cp:revision>
  <dc:subject/>
  <dc:title>الطالبة مريم جاسم الفرح بمقرر حاسوب (1)</dc:title>
</cp:coreProperties>
</file>