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9.jpeg" ContentType="image/jpeg"/>
  <Override PartName="/ppt/media/image8.png" ContentType="image/png"/>
  <Override PartName="/ppt/media/image39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png" ContentType="image/png"/>
  <Override PartName="/ppt/media/image43.png" ContentType="image/png"/>
  <Override PartName="/ppt/media/image23.png" ContentType="image/png"/>
  <Override PartName="/ppt/media/image45.png" ContentType="image/png"/>
  <Override PartName="/ppt/media/applause.wav" ContentType="audio/x-wav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48.jpeg" ContentType="image/jpeg"/>
  <Override PartName="/ppt/media/image49.jpeg" ContentType="image/jpeg"/>
  <Override PartName="/ppt/media/bomb.wav" ContentType="audio/x-wav"/>
  <Override PartName="/ppt/media/wind.wav" ContentType="audio/x-wav"/>
  <Override PartName="/ppt/media/image37.png" ContentType="image/png"/>
  <Override PartName="/ppt/media/image34.jpeg" ContentType="image/jpeg"/>
  <Override PartName="/ppt/media/image7.png" ContentType="image/png"/>
  <Override PartName="/ppt/media/image4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38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C39-17CC-4244-9BBC-E8298148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D21-8800-44DB-96FF-A55F2DC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DAA-9777-4446-90FF-02CBED01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FB3-3F25-43E7-9048-0D1BB5E7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ACE-48CD-4709-8F28-BB573386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C69-CF22-4202-AC45-001535E8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0A9-C748-44C4-9E94-BA153F59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934-8017-4232-B39B-A2D1FBDE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473-4B45-4FF7-9B88-477F0FB2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7BA-031E-402E-BC93-36B6C0EB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6C3-E253-433F-A0B8-8E41933E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893-5302-4D1A-8FBA-93B7381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89C8-4A68-4909-8FFF-DFE25EB541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image" Target="../media/image8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8.png"/><Relationship Id="rId7" Type="http://schemas.openxmlformats.org/officeDocument/2006/relationships/slide" Target=""/><Relationship Id="rId8" Type="http://schemas.openxmlformats.org/officeDocument/2006/relationships/image" Target="../media/image17.png"/><Relationship Id="rId9" Type="http://schemas.openxmlformats.org/officeDocument/2006/relationships/slide" Target="slide19.xml"/><Relationship Id="rId10" Type="http://schemas.openxmlformats.org/officeDocument/2006/relationships/image" Target="../media/image30.png"/><Relationship Id="rId11" Type="http://schemas.openxmlformats.org/officeDocument/2006/relationships/slide" Target="slide20.xml"/><Relationship Id="rId12" Type="http://schemas.openxmlformats.org/officeDocument/2006/relationships/image" Target="../media/image31.png"/><Relationship Id="rId13" Type="http://schemas.openxmlformats.org/officeDocument/2006/relationships/slide" Target="slide18.xml"/><Relationship Id="rId14" Type="http://schemas.openxmlformats.org/officeDocument/2006/relationships/image" Target="../media/image32.png"/><Relationship Id="rId15" Type="http://schemas.openxmlformats.org/officeDocument/2006/relationships/slide" Target="slide21.xml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17.png"/><Relationship Id="rId11" Type="http://schemas.openxmlformats.org/officeDocument/2006/relationships/image" Target="../media/image47.png"/><Relationship Id="rId12" Type="http://schemas.openxmlformats.org/officeDocument/2006/relationships/audio" Target="../media/applause.wav"/><Relationship Id="rId13" Type="http://schemas.openxmlformats.org/officeDocument/2006/relationships/audio" Target="../media/bomb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image" Target="../media/image17.png"/><Relationship Id="rId4" Type="http://schemas.openxmlformats.org/officeDocument/2006/relationships/image" Target="../media/image4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slide" Target="slide13.xml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slide" Target="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561636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الطالبة </a:t>
            </a:r>
            <a:r>
              <a:rPr b="0" lang="ar-KW" sz="4400" spc="-1" strike="noStrike">
                <a:solidFill>
                  <a:srgbClr val="cc0000"/>
                </a:solidFill>
                <a:latin typeface="Arial"/>
              </a:rPr>
              <a:t>مري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006600"/>
                </a:solidFill>
                <a:latin typeface="Arial"/>
              </a:rPr>
              <a:t>جاس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ffffff"/>
                </a:solidFill>
                <a:latin typeface="Arial"/>
              </a:rPr>
              <a:t>الفرح</a:t>
            </a:r>
            <a:br>
              <a:rPr sz="4400"/>
            </a:b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بمقرر حاسوب (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4076280"/>
            <a:ext cx="36003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000000"/>
                </a:solidFill>
                <a:latin typeface="Arial"/>
              </a:rPr>
              <a:t>تقــد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016000" cy="200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049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63640" y="1413000"/>
            <a:ext cx="48243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لبطالة المقن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يادة  السلطة المكتب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وضوح الوصف الوظيفي للعاملين في الاجهزة الادا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عدم وضوح الاهداف الادرية للمؤسسات من حيث الجهاز الاداري و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8972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9640" y="1844640"/>
            <a:ext cx="302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جتم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360" y="1412640"/>
            <a:ext cx="4680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لسماح لقيام مؤسسات المجتمع المدني في نشر الوعي والثقا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مؤسسات الرعاية للفئات الخاصة وذوي الاحتياجات الخاص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وسائل الترفيه الاجتماعية لاستغلال أوقات الفراغ لدى الشباب بصورة مف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69736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686640" y="646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11280" y="1844640"/>
            <a:ext cx="3313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5040360" cy="374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393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5280" cy="12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36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ffffff"/>
                </a:solidFill>
                <a:uFillTx/>
                <a:latin typeface="Arial"/>
              </a:rPr>
              <a:t>ملامح من عمران الكويت قديم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4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22828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8284"/>
                            </p:stCondLst>
                            <p:childTnLst>
                              <p:par>
                                <p:cTn id="6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9284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1700280"/>
            <a:ext cx="7490160" cy="417672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لمحات من تاريخ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27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كانت تسمى في السابق الكوت وتعني القلعة ويقال ان تسميتها ترجع الى اصل برتغالي ومنهم من قال اصلها هند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تأسست الكويت كدولة لها انشطتها الخاصة بها وعلاقاتها في القرن الثامن عش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لم تقع الكويت تحت الحكم العثماني كما هو الحال في العراق لذلك لم يرفع علم الدولة العثمانيه في الكويت ولم يكن هناك والي عثماني في البل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حدثت موقعة الجهراء الشهيره في عام 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1920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 وكانت بين الكويت وبين السع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48360" y="692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97000"/>
            <a:ext cx="5761080" cy="4319640"/>
          </a:xfrm>
          <a:prstGeom prst="rect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ابرز الخصائص الجغرافية ل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5688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وقع الكويت : تقع في الشمال الغربي للخليج العر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ها في سرعة العمران لعدم وجود اي معوقات كالجبال او انها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مناخ واحد في جميع مناطق الكويت لصغر حجمها لذا لا يمكن ان نقول ان المناخ الكويت متعد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 الغزو العراقي بالانتشار بسرعه لعدم وجود اي عوائق طبي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37560" y="5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773360"/>
            <a:ext cx="8064360" cy="4464000"/>
          </a:xfrm>
          <a:prstGeom prst="rect">
            <a:avLst/>
          </a:prstGeom>
          <a:solidFill>
            <a:srgbClr val="0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ملامح التغير الديموغرافي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علم الديموغرافيا : هوعلم يختص بدراسة السكان بتغيير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الانفجار السكاني له تأثيرات جانبية على العالم سواء فمثلاً تزداد الهجرات من دول كشرق آسيا وتتكتل في دول اخرى كالخليج مث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يعتبر السكان والارض و النظام اساس تكوين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ضرورة التغيير السكاني في التركيبة السكانية في الكويت وذلك لزيادة المواطنين وتقليل عدد الواف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53560" y="646200"/>
            <a:ext cx="40608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844640"/>
            <a:ext cx="7343640" cy="287964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cc0000"/>
                </a:solidFill>
                <a:uFillTx/>
                <a:latin typeface="Arial"/>
              </a:rPr>
              <a:t>الملامح الاقتصادية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7570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نفط يعتبر عصب الحياة الاقتصادية في عالمنا الي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مقومات البشرية في التنمية ال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خطر الاعتماد على مصدر وا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0280" y="7192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656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27280" y="1125360"/>
            <a:ext cx="6192720" cy="4391280"/>
          </a:xfrm>
          <a:prstGeom prst="rect">
            <a:avLst/>
          </a:prstGeom>
          <a:solidFill>
            <a:srgbClr val="80008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علاقات دولة الكويت بدول العا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علاقاتها المتميزة بدول الخليج العر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علاقاتها المتميزة بالدول العربية الشق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علاقاتها المتميزة بالدول الاسلا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علاقاتها المتميزة بالدول الصد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885080" y="260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73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116000" y="2276640"/>
            <a:ext cx="1224000" cy="87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187280" y="357336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187280" y="105264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258920" y="4653000"/>
            <a:ext cx="9367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500"/>
                            </p:stCondLst>
                            <p:childTnLst>
                              <p:par>
                                <p:cTn id="9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500"/>
                            </p:stCondLst>
                            <p:childTnLst>
                              <p:par>
                                <p:cTn id="9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500"/>
                            </p:stCondLst>
                            <p:childTnLst>
                              <p:par>
                                <p:cTn id="9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500"/>
                            </p:stCondLst>
                            <p:childTnLst>
                              <p:par>
                                <p:cTn id="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خل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827520" cy="2881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انضمام الكويت لمجلس التعاون سنة 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1981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 واول أمين عام للمجلس كان عبدالله بشارة ، ويضم المجلس (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) د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683160" cy="27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32000" y="1915920"/>
            <a:ext cx="3754440" cy="36003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نضمت الكويت الى جامعة الدول العربية سنة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، حيث تم انشاؤه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وعدد اعضائ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 والأمين العام هو عمرو موس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816360" cy="2735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800" spc="-1" strike="noStrike">
                <a:solidFill>
                  <a:srgbClr val="cc0000"/>
                </a:solidFill>
                <a:latin typeface="Arial"/>
              </a:rPr>
              <a:t>الكويت </a:t>
            </a:r>
            <a:r>
              <a:rPr b="1" i="1" lang="ar-KW" sz="4800" spc="-1" strike="noStrike">
                <a:solidFill>
                  <a:srgbClr val="000000"/>
                </a:solidFill>
                <a:latin typeface="Arial"/>
              </a:rPr>
              <a:t>ومسيرتها</a:t>
            </a:r>
            <a:r>
              <a:rPr b="1" i="1" lang="ar-KW" sz="4800" spc="-1" strike="noStrike">
                <a:solidFill>
                  <a:srgbClr val="006600"/>
                </a:solidFill>
                <a:latin typeface="Arial"/>
              </a:rPr>
              <a:t> التنمو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10108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68360" y="40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- - - - - - - - - - - - - </a:t>
            </a:r>
            <a:r>
              <a:rPr b="1" lang="ar-KW" sz="1800" spc="-1" strike="noStrike" u="sng">
                <a:solidFill>
                  <a:srgbClr val="0000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ar-KW" sz="1800" spc="-1" strike="noStrike" u="sng">
                <a:solidFill>
                  <a:srgbClr val="0066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95640" y="981000"/>
            <a:ext cx="1800360" cy="165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1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6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اسلا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259160" cy="4105080"/>
          </a:xfrm>
          <a:prstGeom prst="rect">
            <a:avLst/>
          </a:prstGeom>
          <a:solidFill>
            <a:srgbClr val="ffff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م انشاء منظمة العالم الاسلامي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بسبب محاول اليهود في احراق القدس، وعدد اعضاؤ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والأمين العام لمنظمة العالم الاسلامي هو اكمل الدين اوغلو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316320" cy="345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89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ال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640" y="2060280"/>
            <a:ext cx="3970080" cy="3097080"/>
          </a:xfrm>
          <a:prstGeom prst="rect">
            <a:avLst/>
          </a:prstGeom>
          <a:solidFill>
            <a:srgbClr val="ff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انضمت الكويت لمنظمة الامم المتحدة الذي تأسس في عام 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م ومقرها نيويور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والامين العام لمنظمة الامم المتحدة هو ( باكيمو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240000" cy="2747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2881440" cy="1582920"/>
          </a:xfrm>
          <a:prstGeom prst="rect">
            <a:avLst/>
          </a:prstGeom>
          <a:solidFill>
            <a:srgbClr val="bbe0e3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أين تقع دولة الكوي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348000" y="2708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948360" y="299736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995640" y="907920"/>
            <a:ext cx="113040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395280" y="551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1908000" y="5662440"/>
            <a:ext cx="648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15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115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0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0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5877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5400" spc="-1" strike="noStrike" u="sng">
                <a:solidFill>
                  <a:srgbClr val="cc0000"/>
                </a:solidFill>
                <a:uFillTx/>
                <a:latin typeface="Arial"/>
              </a:rPr>
              <a:t>- - حفـــظ الله -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429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الكــو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7991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أميرهـ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429264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ولي عهد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124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46"/>
            </a:gs>
            <a:gs pos="100000">
              <a:srgbClr val="cc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32720" y="10526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094280" y="23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021200" y="934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53272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532720" y="2349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مدخل الى التن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276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لمحات من تاريخ الكوي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4974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برز الخصائص الجغر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36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لامح التغير الديموغرا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276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عض الملامح الاقتصا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73360"/>
            <a:ext cx="370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علاقات الكويت بدول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8459640" y="4797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4653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Arial"/>
              </a:rPr>
              <a:t>التقـــو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067280" y="46530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63640" y="4581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000" spc="-1" strike="noStrike">
                <a:solidFill>
                  <a:srgbClr val="ffffff"/>
                </a:solidFill>
                <a:latin typeface="Arial"/>
              </a:rPr>
              <a:t>المر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noFill/>
          <a:ln w="698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مدخل الى التن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1557360"/>
            <a:ext cx="2516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التخل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96000" y="285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المؤشرات السياس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المؤشرات الاقتصاد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155736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ؤشرات الصح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1640" y="2997360"/>
            <a:ext cx="2660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المؤشرات التعليم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المؤشرات الادار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360" y="5589720"/>
            <a:ext cx="2660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المؤشرات الاجتماع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32544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 rot="1277400">
            <a:off x="4716000" y="765000"/>
            <a:ext cx="3322800" cy="3135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 rot="19903800">
            <a:off x="1187280" y="9806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3203640" y="765000"/>
            <a:ext cx="3228840" cy="306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 rot="1379400">
            <a:off x="1476360" y="29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 rot="19935000">
            <a:off x="4572000" y="3068280"/>
            <a:ext cx="352908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092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500"/>
                            </p:stCondLst>
                            <p:childTnLst>
                              <p:par>
                                <p:cTn id="2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5596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التخلف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: حالة ناجمة عن تب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الدول الفقيرة للدول الغنية ورب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قتصادها ب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عقبات التنمية في الدول العالم الثال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دكتـــاتوريــ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فقر والحروب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الجه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بطالة المقنع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بطالة السافر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KW" sz="2900" spc="-1" strike="noStrike">
                <a:solidFill>
                  <a:srgbClr val="000000"/>
                </a:solidFill>
                <a:latin typeface="Arial"/>
              </a:rPr>
              <a:t>العمالة الاجنبي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 u="sng">
                <a:solidFill>
                  <a:srgbClr val="990000"/>
                </a:solidFill>
                <a:uFillTx/>
                <a:latin typeface="Arial"/>
              </a:rPr>
              <a:t>تأثير الاستعمار على الدول النامية</a:t>
            </a:r>
            <a:r>
              <a:rPr b="0" lang="ar-KW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سي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6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جود النظام الديمقراط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حترام الحقوق المدنية والسياس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انسانية للن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حرية الصحافة والإعل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الحريات الأساسية للأفر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الانحياز لتكتل او حزب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قتصا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5280" y="1268280"/>
            <a:ext cx="47642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عتماد الدولة على مصد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حيد للدخ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رط الدولة بالديون الاقتصا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بعية اقتصاد الدولة لاقتصادات الدول المتق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ستوى دخل الف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فر الامن الاقتصاد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9640" y="213372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ص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6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دى انتشار الاوبئة الفتاكة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عدل المواليد والوفيات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نسبة عدد الأسِرة في المستشفيات وعدد الأطباء والطاقم الط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500"/>
                            </p:stCondLst>
                            <p:childTnLst>
                              <p:par>
                                <p:cTn id="5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تعلي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4917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ات الامية في المجتم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دى مواءمة النظام التعليمي للتطور الترب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ارتفاع معدلات البطالة بين الخريج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 التسرب الدراسي وعدم اكمال الطلبة للتعليم الاس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73408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1963800"/>
            <a:ext cx="3240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46:23Z</dcterms:created>
  <dc:creator>wardh</dc:creator>
  <dc:description/>
  <dc:language>en-US</dc:language>
  <cp:lastModifiedBy>wardh</cp:lastModifiedBy>
  <dcterms:modified xsi:type="dcterms:W3CDTF">2010-01-06T15:54:23Z</dcterms:modified>
  <cp:revision>27</cp:revision>
  <dc:subject/>
  <dc:title>الطالبة مريم جاسم الفرح بمقرر حاسوب (1)</dc:title>
</cp:coreProperties>
</file>