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wind.wav" ContentType="audio/x-wav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DD5-DE0C-4275-8397-32069B2D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ABB-0A6E-40A8-B772-C1015AA6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6DB-2FE0-4C59-A058-2145DEF8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DA8-F5A0-4E70-AC52-A883FF9C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CE43-A516-4942-B8EF-43E2AA7E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DE65-8AE9-400A-B1E5-AE686787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C7B7-29D3-4019-9C10-7F55233A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B8CC-AD90-4ABB-985D-98BA42B7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58D6-FA49-4356-B14F-38107161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D9F2-741B-4DDB-82C1-3BC577B8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0FCF-921C-43B8-AD26-F2DD4181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0F6D-8476-45D1-A890-BA4277C6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6F3E-469E-40A2-B8B7-69223F58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3137-6466-49DA-9975-27301A15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F170-2E1D-403A-A997-D1B7CA85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F4A5-D818-422F-9B80-FAD83EC8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598F-4281-45AB-A1E2-1A91A571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595-F255-4FB1-BAC2-2A0AC92D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D9D-9183-4A01-9EBC-1A46632B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B91-ED79-4C73-8F14-0373E0D7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712-61FC-4718-B479-3487A316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6FD-B037-4EBF-9F40-A38D6F29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44A-CF5B-4BD4-BD17-21D3E290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255-F51B-49B9-A155-10E26396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5CD33F6-E2CF-4757-A85B-B5B0584280DD}" type="datetime12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5:15 AM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1BBA-1D7D-4AA7-B6EB-4F0C8A7783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356E175-FF4D-4A9A-9FE6-F76D904B040C}" type="datetime12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5:15 AM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0C9F-22C4-4649-957F-E330F7251F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7200" spc="-1" strike="noStrike">
                <a:solidFill>
                  <a:srgbClr val="3406b4"/>
                </a:solidFill>
                <a:latin typeface="Arial"/>
              </a:rPr>
              <a:t>التوقيع الإلكترون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2057400" cy="1887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4925880"/>
            <a:ext cx="1447920" cy="1322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تقديم : مريم جاسم محمد الفر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85ED559-1C0E-4679-9F09-5ADD51BB43EA}" type="datetime12">
              <a:rPr lang="en-US"/>
              <a:t>05:15 AM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1" action="ppaction://hlinksldjump"/>
              </a:rPr>
              <a:t>تعريف التوقيع الإلكتروني</a:t>
            </a:r>
            <a:r>
              <a:rPr b="0" lang="ar-KW" sz="3200" spc="-1" strike="noStrike">
                <a:solidFill>
                  <a:srgbClr val="3406b4"/>
                </a:solidFill>
                <a:latin typeface="Arial"/>
                <a:ea typeface="Simplified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2" action="ppaction://hlinksldjump"/>
              </a:rPr>
              <a:t>أنواع التوقيع الإلكترو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3" action="ppaction://hlinksldjump"/>
              </a:rPr>
              <a:t>التوقيع الإلكتروني الرق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998AD-F715-4A77-8294-2F7F5A81F7AE}" type="datetime12">
              <a:rPr lang="en-US"/>
              <a:t>05:15 AM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1294920"/>
            <a:ext cx="8229600" cy="1140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600" spc="-1" strike="noStrike">
                <a:solidFill>
                  <a:srgbClr val="3406b4"/>
                </a:solidFill>
                <a:latin typeface="Arial"/>
              </a:rPr>
              <a:t>تعريف التوقيع الإلكتروني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3040200"/>
            <a:ext cx="6400800" cy="30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هو حروف وأرقام أو رموز أو اشارات لها طابع منفرد تسمح بتحديد شخص التوقيع وتمييزه عن غير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295280"/>
            <a:ext cx="6629400" cy="114300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17181" dir="2438368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467480" y="5486400"/>
            <a:ext cx="905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رجو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8CF27-99B8-44E2-8FE5-3D770347FCF8}" type="datetime12">
              <a:rPr lang="en-US"/>
              <a:t>05:15 AM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7672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800" spc="-1" strike="noStrike">
                <a:solidFill>
                  <a:srgbClr val="8c0039"/>
                </a:solidFill>
                <a:latin typeface="Arial"/>
              </a:rPr>
              <a:t>أنواع التوقيع الإلكتروني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2266920"/>
            <a:ext cx="64008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توقيع الإلكتروني الرق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توقيع الإلكتروني البيرومتر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2090880" cy="2108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38280" y="838080"/>
            <a:ext cx="6324840" cy="121932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07932" dir="2700000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50D0E-557A-404F-BD9F-55A4F75BD6C5}" type="datetime12">
              <a:rPr lang="en-US"/>
              <a:t>05:15 AM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438280" y="2965320"/>
            <a:ext cx="640080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يستخدم هذا النظام في التعاملات المصرفية مثل بطاقات الإئتمان التي تحتوي على رقم سري لا يعرفه سوى العمي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437920" y="990720"/>
            <a:ext cx="632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800" spc="-1" strike="noStrike">
                <a:solidFill>
                  <a:srgbClr val="8c0039"/>
                </a:solidFill>
                <a:latin typeface="Arial"/>
              </a:rPr>
              <a:t>التوقيع الالكتروني الرقمي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914400"/>
            <a:ext cx="5486400" cy="129528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07932" dir="2700000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30272-3221-4BF8-962E-193758FAFA7B}" type="datetime12">
              <a:rPr lang="en-US"/>
              <a:t>05:15 AM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19520" y="990720"/>
            <a:ext cx="358128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F1633-42AD-4B44-9C21-E20D85FDE06B}" type="datetime12">
              <a:rPr lang="en-US"/>
              <a:t>05:15 AM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8120" y="1981080"/>
            <a:ext cx="1447560" cy="152424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828800"/>
            <a:ext cx="1828800" cy="1676520"/>
          </a:xfrm>
          <a:prstGeom prst="star5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419720"/>
            <a:ext cx="2133720" cy="1600200"/>
          </a:xfrm>
          <a:custGeom>
            <a:avLst/>
            <a:gdLst>
              <a:gd name="textAreaLeft" fmla="*/ 501480 w 2133720"/>
              <a:gd name="textAreaRight" fmla="*/ 1630800 w 2133720"/>
              <a:gd name="textAreaTop" fmla="*/ 187920 h 1600200"/>
              <a:gd name="textAreaBottom" fmla="*/ 1003680 h 1600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35434-21C0-4390-B39A-C057C6D01BCC}" type="datetime12">
              <a:rPr lang="en-US"/>
              <a:t>05:15 AM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00139 L -0.12587 0.08487 C -0.13872 0.10222 -0.15087 0.13159 -0.15955 0.16327 C -0.16945 0.19935 -0.17396 0.2308 -0.17223 0.25486 L -0.17136 0.36679 E">
                                      <p:cBhvr>
                                        <p:cTn id="1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09066E-006 L 0.07934 0.07724 C 0.09688 0.09343 0.11545 0.12257 0.129 0.15657 C 0.14479 0.19588 0.15209 0.23103 0.15243 0.25948 L 0.15712 0.39153 E">
                                      <p:cBhvr>
                                        <p:cTn id="1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46 L 3.33333E-006 -0.43849 E">
                                      <p:cBhvr>
                                        <p:cTn id="2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36 0.36679 L -0.175 -0.05551 E">
                                      <p:cBhvr>
                                        <p:cTn id="2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281 0.35569 L 0.17917 -0.06661 E">
                                      <p:cBhvr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un 10"/>
          <p:cNvSpPr/>
          <p:nvPr/>
        </p:nvSpPr>
        <p:spPr>
          <a:xfrm>
            <a:off x="4648320" y="1066680"/>
            <a:ext cx="1676160" cy="1447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 11"/>
          <p:cNvSpPr/>
          <p:nvPr/>
        </p:nvSpPr>
        <p:spPr>
          <a:xfrm>
            <a:off x="2743200" y="2514600"/>
            <a:ext cx="1905120" cy="990720"/>
          </a:xfrm>
          <a:prstGeom prst="pie">
            <a:avLst/>
          </a:prstGeom>
          <a:solidFill>
            <a:srgbClr val="9c9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loud 11"/>
          <p:cNvSpPr/>
          <p:nvPr/>
        </p:nvSpPr>
        <p:spPr>
          <a:xfrm>
            <a:off x="6477120" y="2514600"/>
            <a:ext cx="1904760" cy="990720"/>
          </a:xfrm>
          <a:prstGeom prst="pie">
            <a:avLst/>
          </a:prstGeom>
          <a:solidFill>
            <a:srgbClr val="9c9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ubChord"/>
          <p:cNvSpPr/>
          <p:nvPr/>
        </p:nvSpPr>
        <p:spPr>
          <a:xfrm rot="15700200">
            <a:off x="5672520" y="3013560"/>
            <a:ext cx="31284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ubChord"/>
          <p:cNvSpPr/>
          <p:nvPr/>
        </p:nvSpPr>
        <p:spPr>
          <a:xfrm rot="15700200">
            <a:off x="5063040" y="301320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ubChord"/>
          <p:cNvSpPr/>
          <p:nvPr/>
        </p:nvSpPr>
        <p:spPr>
          <a:xfrm rot="15700200">
            <a:off x="5367960" y="347040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ubChord"/>
          <p:cNvSpPr/>
          <p:nvPr/>
        </p:nvSpPr>
        <p:spPr>
          <a:xfrm rot="15700200">
            <a:off x="4986720" y="3699360"/>
            <a:ext cx="31284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ubChord"/>
          <p:cNvSpPr/>
          <p:nvPr/>
        </p:nvSpPr>
        <p:spPr>
          <a:xfrm rot="15700200">
            <a:off x="5749200" y="3852000"/>
            <a:ext cx="31248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ubChord"/>
          <p:cNvSpPr/>
          <p:nvPr/>
        </p:nvSpPr>
        <p:spPr>
          <a:xfrm rot="15700200">
            <a:off x="5367960" y="423252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F99C5-9824-415F-86EB-E66345BC10EE}" type="datetime12">
              <a:rPr lang="en-US"/>
              <a:t>05:15 AM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animMotion origin="layout" path="M 3.33333E-006 -2.88622E-006 L 0.14583 -0.12766 E">
                                      <p:cBhvr>
                                        <p:cTn id="3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Motion origin="layout" path="M 3.33333E-006 -3.3025E-006 L -0.15834 -0.13321 E">
                                      <p:cBhvr>
                                        <p:cTn id="3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5:54:53Z</dcterms:created>
  <dc:creator>student</dc:creator>
  <dc:description/>
  <dc:language>en-US</dc:language>
  <cp:lastModifiedBy>wardh</cp:lastModifiedBy>
  <dcterms:modified xsi:type="dcterms:W3CDTF">2010-01-06T18:48:27Z</dcterms:modified>
  <cp:revision>4</cp:revision>
  <dc:subject/>
  <dc:title>التوقيع الإلكتروني</dc:title>
</cp:coreProperties>
</file>