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wind.wav" ContentType="audio/x-wav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78A-7223-450C-BE77-EEAE71AE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4C8-7260-4DA1-A6C2-DDA46B1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673-E32A-40BE-AE00-7BC30E13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456-A211-4932-84BA-AED065A9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EF1A-C828-415A-89C0-7FC8C49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0512-6A03-4F42-8B8C-FFFFC6E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7D89-831C-457A-9167-800A5D67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985-96BB-4D8D-86FF-BB7F20D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0C47-029F-4A08-95CB-EE5646C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A1D6-0A58-43F6-B910-61695A40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A9BA-3D60-438D-91C7-F57AE6B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6DB-7A5B-4970-B9B5-BE29D567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D003-D144-44D8-9970-75881BFE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464D-16E5-4DF3-9BBD-C70EE01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C05E-2E18-4800-BCB9-1F685A38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7B3A-5248-4758-A0DE-E1871389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481C-B674-495A-ABD8-15B4DD39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837-7F5C-4EF7-85EC-835C6FC2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283-4525-4415-BBCE-C5EF7685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09C-73B2-451B-A098-F6FC7618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1DA-7068-4043-87BC-0C801179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EC0-AD40-4536-AA05-AD379450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575-F2FF-4640-A332-62DD71EC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F69-E0BE-4C58-ABA4-781E7DE1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11278DE-9784-4318-B1C1-418CDECE15BF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2:24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784D-B1EF-4C9D-AECE-DA69166A6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6BF99F8-6826-49E4-8800-07303B70160A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2:24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8915-EA33-4010-A39E-9A876FE580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7200" spc="-1" strike="noStrike">
                <a:solidFill>
                  <a:srgbClr val="3406b4"/>
                </a:solidFill>
                <a:latin typeface="Arial"/>
              </a:rPr>
              <a:t>التوقيع الإلكترو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4925880"/>
            <a:ext cx="1447920" cy="1322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قديم : مريم جاسم محمد الف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12689BA-FA4F-41FD-A4C3-2EB48A106314}" type="datetime12">
              <a:rPr lang="en-US"/>
              <a:t>02:24 A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1" action="ppaction://hlinksldjump"/>
              </a:rPr>
              <a:t>تعريف التوقيع الإلكتروني</a:t>
            </a:r>
            <a:r>
              <a:rPr b="0" lang="ar-KW" sz="3200" spc="-1" strike="noStrike">
                <a:solidFill>
                  <a:srgbClr val="3406b4"/>
                </a:solidFill>
                <a:latin typeface="Arial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2" action="ppaction://hlinksldjump"/>
              </a:rPr>
              <a:t>أنواع التوقيع الإلكترو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3" action="ppaction://hlinksldjump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2FE49-6897-4B41-8450-865E1147BE14}" type="datetime12">
              <a:rPr lang="en-US"/>
              <a:t>02:24 AM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129492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3406b4"/>
                </a:solidFill>
                <a:latin typeface="Arial"/>
              </a:rPr>
              <a:t>تعريف التوقيع الإلكتروني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3040200"/>
            <a:ext cx="640080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هو حروف وأرقام أو رموز أو اشارات لها طابع منفرد تسمح بتحديد شخص التوقيع وتمييزه عن غ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295280"/>
            <a:ext cx="6629400" cy="114300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17181" dir="2438368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67480" y="5486400"/>
            <a:ext cx="90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جو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AAEA4-7660-47AF-B747-EC8BB8F38909}" type="datetime12">
              <a:rPr lang="en-US"/>
              <a:t>02:24 AM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أنواع التوقيع الإلكترون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266920"/>
            <a:ext cx="6400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بيرومت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2090880" cy="2108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38280" y="838080"/>
            <a:ext cx="6324840" cy="121932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C5193-40F8-4B37-916E-3B0C2CFCC8F5}" type="datetime12">
              <a:rPr lang="en-US"/>
              <a:t>02:24 AM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38280" y="2965320"/>
            <a:ext cx="640080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يستخدم هذا النظام في التعاملات المصرفية مثل بطاقات الإئتمان التي تحتوي على رقم سري لا يعرفه سوى العم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437920" y="990720"/>
            <a:ext cx="632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التوقيع الالكتروني الرقم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914400"/>
            <a:ext cx="5486400" cy="129528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8A897-FA1B-42B4-B48D-5261150A30A0}" type="datetime12">
              <a:rPr lang="en-US"/>
              <a:t>02:24 AM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35812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9E7AD-C334-40EA-9E25-39A8D6B49B4F}" type="datetime12">
              <a:rPr lang="en-US"/>
              <a:t>02:24 AM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1981080"/>
            <a:ext cx="1447560" cy="152424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828800"/>
            <a:ext cx="1828800" cy="1676520"/>
          </a:xfrm>
          <a:prstGeom prst="star5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419720"/>
            <a:ext cx="2133720" cy="1600200"/>
          </a:xfrm>
          <a:custGeom>
            <a:avLst/>
            <a:gdLst>
              <a:gd name="textAreaLeft" fmla="*/ 501480 w 2133720"/>
              <a:gd name="textAreaRight" fmla="*/ 1630800 w 2133720"/>
              <a:gd name="textAreaTop" fmla="*/ 187920 h 1600200"/>
              <a:gd name="textAreaBottom" fmla="*/ 1003680 h 160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5D69A-16F8-42E3-8B80-FFC61EE4AE1B}" type="datetime12">
              <a:rPr lang="en-US"/>
              <a:t>02:24 AM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0139 L -0.12587 0.08487 C -0.13872 0.10222 -0.15087 0.13159 -0.15955 0.16327 C -0.16945 0.19935 -0.17396 0.2308 -0.17223 0.25486 L -0.17136 0.36679 E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9066E-006 L 0.07934 0.07724 C 0.09688 0.09343 0.11545 0.12257 0.129 0.15657 C 0.14479 0.19588 0.15209 0.23103 0.15243 0.25948 L 0.15712 0.39153 E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46 L 3.33333E-006 -0.43849 E">
                                      <p:cBhvr>
                                        <p:cTn id="2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6 0.36679 L -0.175 -0.05551 E">
                                      <p:cBhvr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0.35569 L 0.17917 -0.06661 E">
                                      <p:cBhvr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n 10"/>
          <p:cNvSpPr/>
          <p:nvPr/>
        </p:nvSpPr>
        <p:spPr>
          <a:xfrm>
            <a:off x="4648320" y="1066680"/>
            <a:ext cx="1676160" cy="1447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 11"/>
          <p:cNvSpPr/>
          <p:nvPr/>
        </p:nvSpPr>
        <p:spPr>
          <a:xfrm>
            <a:off x="2743200" y="2514600"/>
            <a:ext cx="190512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 11"/>
          <p:cNvSpPr/>
          <p:nvPr/>
        </p:nvSpPr>
        <p:spPr>
          <a:xfrm>
            <a:off x="6477120" y="2514600"/>
            <a:ext cx="190476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Chord"/>
          <p:cNvSpPr/>
          <p:nvPr/>
        </p:nvSpPr>
        <p:spPr>
          <a:xfrm rot="15700200">
            <a:off x="5672520" y="30135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ubChord"/>
          <p:cNvSpPr/>
          <p:nvPr/>
        </p:nvSpPr>
        <p:spPr>
          <a:xfrm rot="15700200">
            <a:off x="5063040" y="30132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ubChord"/>
          <p:cNvSpPr/>
          <p:nvPr/>
        </p:nvSpPr>
        <p:spPr>
          <a:xfrm rot="15700200">
            <a:off x="5367960" y="34704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ubChord"/>
          <p:cNvSpPr/>
          <p:nvPr/>
        </p:nvSpPr>
        <p:spPr>
          <a:xfrm rot="15700200">
            <a:off x="4986720" y="36993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ubChord"/>
          <p:cNvSpPr/>
          <p:nvPr/>
        </p:nvSpPr>
        <p:spPr>
          <a:xfrm rot="15700200">
            <a:off x="5749200" y="3852000"/>
            <a:ext cx="3124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ubChord"/>
          <p:cNvSpPr/>
          <p:nvPr/>
        </p:nvSpPr>
        <p:spPr>
          <a:xfrm rot="15700200">
            <a:off x="5367960" y="423252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4187B-F20D-4B27-A7C9-825EB7BC2E1B}" type="datetime12">
              <a:rPr lang="en-US"/>
              <a:t>02:24 AM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Motion origin="layout" path="M 3.33333E-006 -2.88622E-006 L 0.14583 -0.12766 E">
                                      <p:cBhvr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3.33333E-006 -3.3025E-006 L -0.15834 -0.13321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54:53Z</dcterms:created>
  <dc:creator>student</dc:creator>
  <dc:description/>
  <dc:language>en-US</dc:language>
  <cp:lastModifiedBy>wardh</cp:lastModifiedBy>
  <dcterms:modified xsi:type="dcterms:W3CDTF">2010-01-06T18:48:27Z</dcterms:modified>
  <cp:revision>4</cp:revision>
  <dc:subject/>
  <dc:title>التوقيع الإلكتروني</dc:title>
</cp:coreProperties>
</file>