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wind.wav" ContentType="audio/x-wav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426-4694-432D-83DA-6FED127A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689-435D-4CCE-AE4D-70FCA965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D02-4246-4A18-A090-729FE59A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DB0-625F-4A61-93A8-8B89585B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4BA8-B236-42DA-AF8A-6744B292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E6DE-1BDF-47E1-BC14-6BF57BC4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34DB-E8D2-4F38-9EB0-518EF978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54C8-2F26-4F3E-A9C7-84427739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678B-AF47-4A9C-BBFD-6326ED8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C361-AFDB-4E81-A85C-F88402D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5639-D2C9-4128-A21B-9D8C7401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F97-DF82-4132-9118-0AE5C02B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CAE4-8CB0-4832-AC72-F59847B0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CBBC-BCB9-44CD-B44F-D3A99893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33A0-6A1B-4ED6-B76F-D075CD88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BFE8-D4F3-4415-8818-41832B86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DD39-BD51-44BE-9274-BF3C1CA1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CA6-BF20-4A0D-B1A1-AC8D72A5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46A-2302-41E2-B69D-C724D558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41D-287A-484A-971A-78617168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BEC-A7B2-4AA0-B79D-725B0A26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CF9-C483-4321-BDDB-22030802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F07-393E-481A-A274-F0C46F3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776-6DD1-45DC-93DF-53999F22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9545626-C1E8-42E1-9B66-C53272CB49A4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5:15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5982-6588-4B0F-B86D-18B4B6A915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3B74D41-FEBC-45DC-A8A8-63A542ED2924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5:15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3954-DE33-4DD0-98F8-7020E9F193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7200" spc="-1" strike="noStrike">
                <a:solidFill>
                  <a:srgbClr val="3406b4"/>
                </a:solidFill>
                <a:latin typeface="Arial"/>
              </a:rPr>
              <a:t>التوقيع الإلكترو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4925880"/>
            <a:ext cx="1447920" cy="1322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قديم : مريم جاسم محمد الف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A1399EE-B432-4E27-B9A3-AFBB3CA2CBC5}" type="datetime12">
              <a:rPr lang="en-US"/>
              <a:t>05:15 AM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1" action="ppaction://hlinksldjump"/>
              </a:rPr>
              <a:t>تعريف التوقيع الإلكتروني</a:t>
            </a:r>
            <a:r>
              <a:rPr b="0" lang="ar-KW" sz="3200" spc="-1" strike="noStrike">
                <a:solidFill>
                  <a:srgbClr val="3406b4"/>
                </a:solidFill>
                <a:latin typeface="Arial"/>
                <a:ea typeface="Simplified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2" action="ppaction://hlinksldjump"/>
              </a:rPr>
              <a:t>أنواع التوقيع الإلكترو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3" action="ppaction://hlinksldjump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74B10-C1F0-4AB5-9887-BC7718BB0A8D}" type="datetime12">
              <a:rPr lang="en-US"/>
              <a:t>05:15 AM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129492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3406b4"/>
                </a:solidFill>
                <a:latin typeface="Arial"/>
              </a:rPr>
              <a:t>تعريف التوقيع الإلكتروني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3040200"/>
            <a:ext cx="6400800" cy="30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هو حروف وأرقام أو رموز أو اشارات لها طابع منفرد تسمح بتحديد شخص التوقيع وتمييزه عن غ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295280"/>
            <a:ext cx="6629400" cy="114300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17181" dir="2438368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467480" y="5486400"/>
            <a:ext cx="90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جو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AEC8A-69B8-4BDE-A10A-7624203CE919}" type="datetime12">
              <a:rPr lang="en-US"/>
              <a:t>05:15 AM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7672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أنواع التوقيع الإلكترون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2266920"/>
            <a:ext cx="6400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بيرومت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2090880" cy="2108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38280" y="838080"/>
            <a:ext cx="6324840" cy="121932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666D3-6DB8-4D55-BE2F-164A19632355}" type="datetime12">
              <a:rPr lang="en-US"/>
              <a:t>05:15 AM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38280" y="2965320"/>
            <a:ext cx="640080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يستخدم هذا النظام في التعاملات المصرفية مثل بطاقات الإئتمان التي تحتوي على رقم سري لا يعرفه سوى العمي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437920" y="990720"/>
            <a:ext cx="632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التوقيع الالكتروني الرقم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914400"/>
            <a:ext cx="5486400" cy="129528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6B0A7-132D-4D58-BC06-C556E720BDCE}" type="datetime12">
              <a:rPr lang="en-US"/>
              <a:t>05:15 AM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19520" y="990720"/>
            <a:ext cx="358128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971C0-1737-4148-AA89-C1BD3445BC6C}" type="datetime12">
              <a:rPr lang="en-US"/>
              <a:t>05:15 AM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8120" y="1981080"/>
            <a:ext cx="1447560" cy="152424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828800"/>
            <a:ext cx="1828800" cy="1676520"/>
          </a:xfrm>
          <a:prstGeom prst="star5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419720"/>
            <a:ext cx="2133720" cy="1600200"/>
          </a:xfrm>
          <a:custGeom>
            <a:avLst/>
            <a:gdLst>
              <a:gd name="textAreaLeft" fmla="*/ 501480 w 2133720"/>
              <a:gd name="textAreaRight" fmla="*/ 1630800 w 2133720"/>
              <a:gd name="textAreaTop" fmla="*/ 187920 h 1600200"/>
              <a:gd name="textAreaBottom" fmla="*/ 1003680 h 160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37708-5DE7-4D26-8777-88BEAFA0BE72}" type="datetime12">
              <a:rPr lang="en-US"/>
              <a:t>05:15 AM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0139 L -0.12587 0.08487 C -0.13872 0.10222 -0.15087 0.13159 -0.15955 0.16327 C -0.16945 0.19935 -0.17396 0.2308 -0.17223 0.25486 L -0.17136 0.36679 E">
                                      <p:cBhvr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9066E-006 L 0.07934 0.07724 C 0.09688 0.09343 0.11545 0.12257 0.129 0.15657 C 0.14479 0.19588 0.15209 0.23103 0.15243 0.25948 L 0.15712 0.39153 E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46 L 3.33333E-006 -0.43849 E">
                                      <p:cBhvr>
                                        <p:cTn id="2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6 0.36679 L -0.175 -0.05551 E">
                                      <p:cBhvr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0.35569 L 0.17917 -0.06661 E">
                                      <p:cBhvr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n 10"/>
          <p:cNvSpPr/>
          <p:nvPr/>
        </p:nvSpPr>
        <p:spPr>
          <a:xfrm>
            <a:off x="4648320" y="1066680"/>
            <a:ext cx="1676160" cy="1447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 11"/>
          <p:cNvSpPr/>
          <p:nvPr/>
        </p:nvSpPr>
        <p:spPr>
          <a:xfrm>
            <a:off x="2743200" y="2514600"/>
            <a:ext cx="190512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 11"/>
          <p:cNvSpPr/>
          <p:nvPr/>
        </p:nvSpPr>
        <p:spPr>
          <a:xfrm>
            <a:off x="6477120" y="2514600"/>
            <a:ext cx="190476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ubChord"/>
          <p:cNvSpPr/>
          <p:nvPr/>
        </p:nvSpPr>
        <p:spPr>
          <a:xfrm rot="15700200">
            <a:off x="5672520" y="30135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ubChord"/>
          <p:cNvSpPr/>
          <p:nvPr/>
        </p:nvSpPr>
        <p:spPr>
          <a:xfrm rot="15700200">
            <a:off x="5063040" y="30132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ubChord"/>
          <p:cNvSpPr/>
          <p:nvPr/>
        </p:nvSpPr>
        <p:spPr>
          <a:xfrm rot="15700200">
            <a:off x="5367960" y="34704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ubChord"/>
          <p:cNvSpPr/>
          <p:nvPr/>
        </p:nvSpPr>
        <p:spPr>
          <a:xfrm rot="15700200">
            <a:off x="4986720" y="36993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ubChord"/>
          <p:cNvSpPr/>
          <p:nvPr/>
        </p:nvSpPr>
        <p:spPr>
          <a:xfrm rot="15700200">
            <a:off x="5749200" y="3852000"/>
            <a:ext cx="3124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ubChord"/>
          <p:cNvSpPr/>
          <p:nvPr/>
        </p:nvSpPr>
        <p:spPr>
          <a:xfrm rot="15700200">
            <a:off x="5367960" y="423252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AE8F7-A80E-4C45-9B25-24526B007E57}" type="datetime12">
              <a:rPr lang="en-US"/>
              <a:t>05:15 AM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Motion origin="layout" path="M 3.33333E-006 -2.88622E-006 L 0.14583 -0.12766 E">
                                      <p:cBhvr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Motion origin="layout" path="M 3.33333E-006 -3.3025E-006 L -0.15834 -0.13321 E">
                                      <p:cBhvr>
                                        <p:cTn id="3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5:54:53Z</dcterms:created>
  <dc:creator>student</dc:creator>
  <dc:description/>
  <dc:language>en-US</dc:language>
  <cp:lastModifiedBy>wardh</cp:lastModifiedBy>
  <dcterms:modified xsi:type="dcterms:W3CDTF">2010-01-06T18:48:27Z</dcterms:modified>
  <cp:revision>4</cp:revision>
  <dc:subject/>
  <dc:title>التوقيع الإلكتروني</dc:title>
</cp:coreProperties>
</file>