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wind.wav" ContentType="audio/x-wav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86A-46B9-42AA-A7DE-40024A4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B8B-1B03-4D2B-B168-89281EB4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393-D86F-4021-B637-1A3FE9DF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D01-9AA5-4263-837D-FBA5B279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6948-F935-49AA-B5F2-055F182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956D-4EDF-4C8F-87E7-051A1C4D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BDFD-EEFF-45A5-8C44-C688D026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1378-0E93-4CA7-82DE-84F75D3B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4773-4D75-465D-A014-D4F56F65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4267-A168-481B-9187-01923586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F8F3-AD8C-4510-AB82-145BC21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DBB-1800-4E7F-8904-7FA6B7B8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6DE6-11E6-4325-BC89-A5080290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3B40-1467-4113-B03C-C3F74EB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2BC3-396B-4CD7-BF64-831880FB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6739-313D-4FC6-B3CF-D7C0667F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3185-1B72-4E1E-AC7D-609EC40C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F7C-C7C6-4511-B5E9-DDB3A1DE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AE7-2C5A-4A99-A8A4-F2919C6E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D16-AB33-4B8B-8F27-E3461114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736-7496-4C54-912B-F055BC28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6D9-374D-4F90-8BFA-56D569EB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B8B-99E7-4B67-AC08-79494DD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9CC-DDCC-49E1-855B-E0E72FFD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6A84E0-C08D-42B8-BBFE-4DFA78347305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:24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6D9-1441-4BBB-B17A-44AE95EC8A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4E5A3A-1C91-4CAB-B606-FDE145DD816C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:24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7F7F-4238-413F-BCF0-105E880696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3406b4"/>
                </a:solidFill>
                <a:latin typeface="Arial"/>
              </a:rPr>
              <a:t>التوقيع الإلكترو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4925880"/>
            <a:ext cx="144792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قديم : مريم جاسم محمد 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F3D241-4A7A-4E4F-85FB-EEEC6C865215}" type="datetime12">
              <a:rPr lang="en-US"/>
              <a:t>02:24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1" action="ppaction://hlinksldjump"/>
              </a:rPr>
              <a:t>تعريف التوقيع الإلكتروني</a:t>
            </a:r>
            <a:r>
              <a:rPr b="0" lang="ar-KW" sz="3200" spc="-1" strike="noStrike">
                <a:solidFill>
                  <a:srgbClr val="3406b4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2" action="ppaction://hlinksldjump"/>
              </a:rPr>
              <a:t>أنواع التوقيع الإلكترو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3" action="ppaction://hlinksldjump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18FBE-7289-4139-8551-73B087C53C60}" type="datetime12">
              <a:rPr lang="en-US"/>
              <a:t>02:24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294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3406b4"/>
                </a:solidFill>
                <a:latin typeface="Arial"/>
              </a:rPr>
              <a:t>تعريف التوقيع الإلكتروني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3040200"/>
            <a:ext cx="64008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هو حروف وأرقام أو رموز أو اشارات لها طابع منفرد تسمح بتحديد شخص التوقيع وتمييزه عن غ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295280"/>
            <a:ext cx="6629400" cy="114300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17181" dir="2438368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67480" y="5486400"/>
            <a:ext cx="90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جو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6CB28-6FD6-4A1B-8505-B0703E490397}" type="datetime12">
              <a:rPr lang="en-US"/>
              <a:t>02:24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أنواع التوقيع الإلكترون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266920"/>
            <a:ext cx="6400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بيرومت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209088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838080"/>
            <a:ext cx="6324840" cy="121932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F04F6-D46D-4C6E-BEC5-3775D89A0361}" type="datetime12">
              <a:rPr lang="en-US"/>
              <a:t>02:24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2965320"/>
            <a:ext cx="64008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يستخدم هذا النظام في التعاملات المصرفية مثل بطاقات الإئتمان التي تحتوي على رقم سري لا يعرفه سوى العم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437920" y="990720"/>
            <a:ext cx="632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التوقيع الالكتروني الرقم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914400"/>
            <a:ext cx="5486400" cy="129528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2D374-0F76-4506-AC0A-21562066F78B}" type="datetime12">
              <a:rPr lang="en-US"/>
              <a:t>02:24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1747E-7D4F-435B-BEDF-799643CD5912}" type="datetime12">
              <a:rPr lang="en-US"/>
              <a:t>02:24 AM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981080"/>
            <a:ext cx="1447560" cy="152424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1828800" cy="1676520"/>
          </a:xfrm>
          <a:prstGeom prst="star5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419720"/>
            <a:ext cx="2133720" cy="1600200"/>
          </a:xfrm>
          <a:custGeom>
            <a:avLst/>
            <a:gdLst>
              <a:gd name="textAreaLeft" fmla="*/ 501480 w 2133720"/>
              <a:gd name="textAreaRight" fmla="*/ 1630800 w 21337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CFAE0-52FC-4468-A3A8-5362044CCEB2}" type="datetime12">
              <a:rPr lang="en-US"/>
              <a:t>02:24 AM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0139 L -0.12587 0.08487 C -0.13872 0.10222 -0.15087 0.13159 -0.15955 0.16327 C -0.16945 0.19935 -0.17396 0.2308 -0.17223 0.25486 L -0.17136 0.36679 E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066E-006 L 0.07934 0.07724 C 0.09688 0.09343 0.11545 0.12257 0.129 0.15657 C 0.14479 0.19588 0.15209 0.23103 0.15243 0.25948 L 0.15712 0.39153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46 L 3.33333E-006 -0.43849 E">
                                      <p:cBhvr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36679 L -0.175 -0.05551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0.35569 L 0.17917 -0.06661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n 10"/>
          <p:cNvSpPr/>
          <p:nvPr/>
        </p:nvSpPr>
        <p:spPr>
          <a:xfrm>
            <a:off x="4648320" y="1066680"/>
            <a:ext cx="1676160" cy="1447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2743200" y="2514600"/>
            <a:ext cx="190512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1"/>
          <p:cNvSpPr/>
          <p:nvPr/>
        </p:nvSpPr>
        <p:spPr>
          <a:xfrm>
            <a:off x="6477120" y="2514600"/>
            <a:ext cx="190476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Chord"/>
          <p:cNvSpPr/>
          <p:nvPr/>
        </p:nvSpPr>
        <p:spPr>
          <a:xfrm rot="15700200">
            <a:off x="5672520" y="30135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Chord"/>
          <p:cNvSpPr/>
          <p:nvPr/>
        </p:nvSpPr>
        <p:spPr>
          <a:xfrm rot="15700200">
            <a:off x="5063040" y="30132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ubChord"/>
          <p:cNvSpPr/>
          <p:nvPr/>
        </p:nvSpPr>
        <p:spPr>
          <a:xfrm rot="15700200">
            <a:off x="5367960" y="34704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ubChord"/>
          <p:cNvSpPr/>
          <p:nvPr/>
        </p:nvSpPr>
        <p:spPr>
          <a:xfrm rot="15700200">
            <a:off x="4986720" y="36993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Chord"/>
          <p:cNvSpPr/>
          <p:nvPr/>
        </p:nvSpPr>
        <p:spPr>
          <a:xfrm rot="15700200">
            <a:off x="5749200" y="3852000"/>
            <a:ext cx="3124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ubChord"/>
          <p:cNvSpPr/>
          <p:nvPr/>
        </p:nvSpPr>
        <p:spPr>
          <a:xfrm rot="15700200">
            <a:off x="5367960" y="423252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A8EFF-0D76-4E83-9B4B-DAF7B1B45442}" type="datetime12">
              <a:rPr lang="en-US"/>
              <a:t>02:24 AM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3.33333E-006 -2.88622E-006 L 0.14583 -0.12766 E"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3.33333E-006 -3.3025E-006 L -0.15834 -0.13321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4:53Z</dcterms:created>
  <dc:creator>student</dc:creator>
  <dc:description/>
  <dc:language>en-US</dc:language>
  <cp:lastModifiedBy>wardh</cp:lastModifiedBy>
  <dcterms:modified xsi:type="dcterms:W3CDTF">2010-01-06T18:48:27Z</dcterms:modified>
  <cp:revision>4</cp:revision>
  <dc:subject/>
  <dc:title>التوقيع الإلكتروني</dc:title>
</cp:coreProperties>
</file>