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wind.wav" ContentType="audio/x-wav"/>
  <Override PartName="/ppt/media/image6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3B0F-CB49-4D9B-B97A-BC864B7EA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655E-091F-4E75-8128-0278D9578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72E4-33EF-42B3-B967-8E3DBE6D1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CE6B-6F7D-49CD-9397-8BB5D4302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741F0-22A9-40A7-A269-146CB5F19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E43F3-C4F8-4195-9BEE-ADD73EC4E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5F464-2004-4CA1-9D89-3E30BC31C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8D97C-41F0-4F1C-9AC9-A315C5F03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FA442-7196-4E57-8AD0-916F61EEC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5BC8F-0B0B-4A57-BC54-2188B6997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0FA2D-4D97-47CF-B340-04CF2659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B3C9-6D4F-438F-B50D-55443D2BC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C78C1-0C99-4225-AA48-96474E78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12637-4EA9-42FA-903A-D27787EF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097FB-E308-47A1-B885-C10BA99B1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A3E7A-13FC-454D-A802-B67D965F5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D4151-A053-48C4-AA53-2C8BC8926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D4B1-6B5E-4EE4-B1B3-57EA2156C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CF15-444F-4D4F-9BF4-14751A1DE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BD65-1EC3-49DC-B056-008E06CB9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2638-7111-4DAE-9FEC-269EB5ACA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A479-6A3F-4EC4-83B9-16BFA734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F54F-BE14-48DF-9413-782CE149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883C-1578-48BF-9F92-A852A6C4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 rtl="1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 algn="r" rtl="1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048D9556-E0C9-4802-9BCB-625E1ED705CB}" type="datetime12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5:14 AM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9BCE8-1463-4949-A0B1-6EA36B5BD07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BAEFD39A-247E-49CE-B418-7FFD7F55FC74}" type="datetime12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5:14 AM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529D3-B966-4918-8D19-5ABA42779A9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7200" spc="-1" strike="noStrike">
                <a:solidFill>
                  <a:srgbClr val="3406b4"/>
                </a:solidFill>
                <a:latin typeface="Arial"/>
              </a:rPr>
              <a:t>التوقيع الإلكتروني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04920" y="4495680"/>
            <a:ext cx="2057400" cy="1887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38080" y="4925880"/>
            <a:ext cx="1447920" cy="13226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تقديم : مريم جاسم محمد الفر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4300B98-4045-4779-8E30-179A3F166FDC}" type="datetime12">
              <a:rPr lang="en-US"/>
              <a:t>05:14 AM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 u="sng">
                <a:solidFill>
                  <a:srgbClr val="e4005c"/>
                </a:solidFill>
                <a:uFillTx/>
                <a:latin typeface="Arial"/>
                <a:cs typeface="Simplified Arabic"/>
                <a:hlinkClick r:id="rId1" action="ppaction://hlinksldjump"/>
              </a:rPr>
              <a:t>تعريف التوقيع الإلكتروني</a:t>
            </a:r>
            <a:r>
              <a:rPr b="0" lang="ar-KW" sz="3200" spc="-1" strike="noStrike">
                <a:solidFill>
                  <a:srgbClr val="3406b4"/>
                </a:solidFill>
                <a:latin typeface="Arial"/>
                <a:ea typeface="Simplified Arab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 u="sng">
                <a:solidFill>
                  <a:srgbClr val="e4005c"/>
                </a:solidFill>
                <a:uFillTx/>
                <a:latin typeface="Arial"/>
                <a:cs typeface="Simplified Arabic"/>
                <a:hlinkClick r:id="rId2" action="ppaction://hlinksldjump"/>
              </a:rPr>
              <a:t>أنواع التوقيع الإلكترون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 u="sng">
                <a:solidFill>
                  <a:srgbClr val="e4005c"/>
                </a:solidFill>
                <a:uFillTx/>
                <a:latin typeface="Arial"/>
                <a:cs typeface="Simplified Arabic"/>
                <a:hlinkClick r:id="rId3" action="ppaction://hlinksldjump"/>
              </a:rPr>
              <a:t>التوقيع الإلكتروني الرقم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BF514E-1492-441A-975E-DBB7233865B2}" type="datetime12">
              <a:rPr lang="en-US"/>
              <a:t>05:14 AM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28800" y="1294920"/>
            <a:ext cx="8229600" cy="1140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6600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600" spc="-1" strike="noStrike">
                <a:solidFill>
                  <a:srgbClr val="3406b4"/>
                </a:solidFill>
                <a:latin typeface="Arial"/>
              </a:rPr>
              <a:t>تعريف التوقيع الإلكتروني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38280" y="3040200"/>
            <a:ext cx="6400800" cy="30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هو حروف وأرقام أو رموز أو اشارات لها طابع منفرد تسمح بتحديد شخص التوقيع وتمييزه عن غير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0" y="1295280"/>
            <a:ext cx="6629400" cy="1143000"/>
          </a:xfrm>
          <a:prstGeom prst="rect">
            <a:avLst/>
          </a:prstGeom>
          <a:noFill/>
          <a:ln w="38160">
            <a:solidFill>
              <a:srgbClr val="9966ff"/>
            </a:solidFill>
            <a:miter/>
          </a:ln>
          <a:effectLst>
            <a:outerShdw dist="117181" dir="2438368" blurRad="0" rotWithShape="0">
              <a:srgbClr val="66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7467480" y="5486400"/>
            <a:ext cx="9050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رجو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54B697-1858-43C3-890F-3F174554B615}" type="datetime12">
              <a:rPr lang="en-US"/>
              <a:t>05:14 AM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76720" y="7621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4800" spc="-1" strike="noStrike">
                <a:solidFill>
                  <a:srgbClr val="8c0039"/>
                </a:solidFill>
                <a:latin typeface="Arial"/>
              </a:rPr>
              <a:t>أنواع التوقيع الإلكتروني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2266920"/>
            <a:ext cx="6400800" cy="38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التوقيع الإلكتروني الرقم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التوقيع الإلكتروني البيرومتر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3809880"/>
            <a:ext cx="2090880" cy="21081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438280" y="838080"/>
            <a:ext cx="6324840" cy="1219320"/>
          </a:xfrm>
          <a:prstGeom prst="rect">
            <a:avLst/>
          </a:prstGeom>
          <a:noFill/>
          <a:ln w="38160">
            <a:solidFill>
              <a:srgbClr val="9966ff"/>
            </a:solidFill>
            <a:miter/>
          </a:ln>
          <a:effectLst>
            <a:outerShdw dist="107932" dir="2700000" blurRad="0" rotWithShape="0">
              <a:srgbClr val="66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D3EC5C-8F3C-43FD-905F-0CACB7F4047E}" type="datetime12">
              <a:rPr lang="en-US"/>
              <a:t>05:14 AM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2438280" y="2965320"/>
            <a:ext cx="6400800" cy="31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يستخدم هذا النظام في التعاملات المصرفية مثل بطاقات الإئتمان التي تحتوي على رقم سري لا يعرفه سوى العمي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2437920" y="990720"/>
            <a:ext cx="6324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4800" spc="-1" strike="noStrike">
                <a:solidFill>
                  <a:srgbClr val="8c0039"/>
                </a:solidFill>
                <a:latin typeface="Arial"/>
              </a:rPr>
              <a:t>التوقيع الالكتروني الرقمي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19520" y="914400"/>
            <a:ext cx="5486400" cy="1295280"/>
          </a:xfrm>
          <a:prstGeom prst="rect">
            <a:avLst/>
          </a:prstGeom>
          <a:noFill/>
          <a:ln w="38160">
            <a:solidFill>
              <a:srgbClr val="9966ff"/>
            </a:solidFill>
            <a:miter/>
          </a:ln>
          <a:effectLst>
            <a:outerShdw dist="107932" dir="2700000" blurRad="0" rotWithShape="0">
              <a:srgbClr val="66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851F3F-66E7-42F8-B6A6-302C570E6835}" type="datetime12">
              <a:rPr lang="en-US"/>
              <a:t>05:14 AM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819520" y="990720"/>
            <a:ext cx="3581280" cy="228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686A7C-B0C0-4F63-9FDE-928389C82EB7}" type="datetime12">
              <a:rPr lang="en-US"/>
              <a:t>05:14 AM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048120" y="1981080"/>
            <a:ext cx="1447560" cy="1524240"/>
          </a:xfrm>
          <a:prstGeom prst="octagon">
            <a:avLst>
              <a:gd name="adj" fmla="val 29287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95880" y="1828800"/>
            <a:ext cx="1828800" cy="1676520"/>
          </a:xfrm>
          <a:prstGeom prst="star5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43400" y="4419720"/>
            <a:ext cx="2133720" cy="1600200"/>
          </a:xfrm>
          <a:custGeom>
            <a:avLst/>
            <a:gdLst>
              <a:gd name="textAreaLeft" fmla="*/ 501480 w 2133720"/>
              <a:gd name="textAreaRight" fmla="*/ 1630800 w 2133720"/>
              <a:gd name="textAreaTop" fmla="*/ 187920 h 1600200"/>
              <a:gd name="textAreaBottom" fmla="*/ 1003680 h 16002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108803-2DB9-41A4-BD0F-C5D3D94CD717}" type="datetime12">
              <a:rPr lang="en-US"/>
              <a:t>05:14 AM</a:t>
            </a:fld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118 0.00139 L -0.12587 0.08487 C -0.13872 0.10222 -0.15087 0.13159 -0.15955 0.16327 C -0.16945 0.19935 -0.17396 0.2308 -0.17223 0.25486 L -0.17136 0.36679 E">
                                      <p:cBhvr>
                                        <p:cTn id="12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09066E-006 L 0.07934 0.07724 C 0.09688 0.09343 0.11545 0.12257 0.129 0.15657 C 0.14479 0.19588 0.15209 0.23103 0.15243 0.25948 L 0.15712 0.39153 E">
                                      <p:cBhvr>
                                        <p:cTn id="16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10546 L 3.33333E-006 -0.43849 E">
                                      <p:cBhvr>
                                        <p:cTn id="20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136 0.36679 L -0.175 -0.05551 E">
                                      <p:cBhvr>
                                        <p:cTn id="24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8281 0.35569 L 0.17917 -0.06661 E">
                                      <p:cBhvr>
                                        <p:cTn id="28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un 10"/>
          <p:cNvSpPr/>
          <p:nvPr/>
        </p:nvSpPr>
        <p:spPr>
          <a:xfrm>
            <a:off x="4648320" y="1066680"/>
            <a:ext cx="1676160" cy="1447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loud 11"/>
          <p:cNvSpPr/>
          <p:nvPr/>
        </p:nvSpPr>
        <p:spPr>
          <a:xfrm>
            <a:off x="2743200" y="2514600"/>
            <a:ext cx="1905120" cy="990720"/>
          </a:xfrm>
          <a:prstGeom prst="pie">
            <a:avLst/>
          </a:prstGeom>
          <a:solidFill>
            <a:srgbClr val="9c9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Cloud 11"/>
          <p:cNvSpPr/>
          <p:nvPr/>
        </p:nvSpPr>
        <p:spPr>
          <a:xfrm>
            <a:off x="6477120" y="2514600"/>
            <a:ext cx="1904760" cy="990720"/>
          </a:xfrm>
          <a:prstGeom prst="pie">
            <a:avLst/>
          </a:prstGeom>
          <a:solidFill>
            <a:srgbClr val="9c9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ubChord"/>
          <p:cNvSpPr/>
          <p:nvPr/>
        </p:nvSpPr>
        <p:spPr>
          <a:xfrm rot="15700200">
            <a:off x="5672520" y="3013560"/>
            <a:ext cx="312840" cy="7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342" y="4084"/>
                </a:moveTo>
                <a:arcTo wR="10800" hR="10800" stAng="-8493038" swAng="-10406962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ubChord"/>
          <p:cNvSpPr/>
          <p:nvPr/>
        </p:nvSpPr>
        <p:spPr>
          <a:xfrm rot="15700200">
            <a:off x="5063040" y="3013200"/>
            <a:ext cx="312840" cy="76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342" y="4084"/>
                </a:moveTo>
                <a:arcTo wR="10800" hR="10800" stAng="-8493038" swAng="-10406962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ubChord"/>
          <p:cNvSpPr/>
          <p:nvPr/>
        </p:nvSpPr>
        <p:spPr>
          <a:xfrm rot="15700200">
            <a:off x="5367960" y="3470400"/>
            <a:ext cx="312840" cy="76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342" y="4084"/>
                </a:moveTo>
                <a:arcTo wR="10800" hR="10800" stAng="-8493038" swAng="-10406962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ubChord"/>
          <p:cNvSpPr/>
          <p:nvPr/>
        </p:nvSpPr>
        <p:spPr>
          <a:xfrm rot="15700200">
            <a:off x="4986720" y="3699360"/>
            <a:ext cx="312840" cy="7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342" y="4084"/>
                </a:moveTo>
                <a:arcTo wR="10800" hR="10800" stAng="-8493038" swAng="-10406962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ubChord"/>
          <p:cNvSpPr/>
          <p:nvPr/>
        </p:nvSpPr>
        <p:spPr>
          <a:xfrm rot="15700200">
            <a:off x="5749200" y="3852000"/>
            <a:ext cx="312480" cy="76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342" y="4084"/>
                </a:moveTo>
                <a:arcTo wR="10800" hR="10800" stAng="-8493038" swAng="-10406962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ubChord"/>
          <p:cNvSpPr/>
          <p:nvPr/>
        </p:nvSpPr>
        <p:spPr>
          <a:xfrm rot="15700200">
            <a:off x="5367960" y="4232520"/>
            <a:ext cx="312840" cy="76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342" y="4084"/>
                </a:moveTo>
                <a:arcTo wR="10800" hR="10800" stAng="-8493038" swAng="-10406962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0B5366-ABCA-4827-AE91-47D7AC6AC19A}" type="datetime12">
              <a:rPr lang="en-US"/>
              <a:t>05:14 AM</a:t>
            </a:fld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ind.wav"/>
                                        </p:tgtEl>
                                      </p:cMediaNode>
                                    </p:audio>
                                    <p:animMotion origin="layout" path="M 3.33333E-006 -2.88622E-006 L 0.14583 -0.12766 E">
                                      <p:cBhvr>
                                        <p:cTn id="34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animMotion origin="layout" path="M 3.33333E-006 -3.3025E-006 L -0.15834 -0.13321 E">
                                      <p:cBhvr>
                                        <p:cTn id="38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" dur="2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" dur="2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8000"/>
                            </p:stCondLst>
                            <p:childTnLst>
                              <p:par>
                                <p:cTn id="64" nodeType="after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" dur="2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0"/>
                            </p:stCondLst>
                            <p:childTnLst>
                              <p:par>
                                <p:cTn id="72" nodeType="after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2000"/>
                            </p:stCondLst>
                            <p:childTnLst>
                              <p:par>
                                <p:cTn id="80" nodeType="after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05:54:53Z</dcterms:created>
  <dc:creator>student</dc:creator>
  <dc:description/>
  <dc:language>en-US</dc:language>
  <cp:lastModifiedBy>wardh</cp:lastModifiedBy>
  <dcterms:modified xsi:type="dcterms:W3CDTF">2010-01-06T18:48:27Z</dcterms:modified>
  <cp:revision>4</cp:revision>
  <dc:subject/>
  <dc:title>التوقيع الإلكتروني</dc:title>
</cp:coreProperties>
</file>