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wind.wav" ContentType="audio/x-wav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6B0-EDD8-482C-B23F-B8B69AEE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C22-ADF7-4C9B-A599-E46F807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D50-BD4F-4D7D-8B28-A259F596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62E-0393-46AF-8AA1-29617508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CFFC-3C77-44C1-B99C-117C0383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F33D-6543-42DB-A1A7-7758842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5C1D-903A-4A14-B70A-A90EF3C5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0528-E70F-423A-B7FE-0A545F2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A4D-009E-45F8-B250-AB63F4EF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9F44-E9FB-4A57-9F31-6CB32502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32D3-07CB-4B78-A030-EBEB8875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2D0-AB2A-446A-A3D3-E0AAF7A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4F6E-74AE-465F-B27A-633D1C6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040E-53FC-4FD2-92C3-1AA675B3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B11A-9E0A-40E8-9BE0-EEDD8E15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1E98-F234-4013-AFF1-53163783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ABCC-6B59-41FC-8D88-395237AD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911-07E4-4134-AD94-30936F39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B69-B116-4CAE-9EE8-05BF85BE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3B0-C628-4973-9B7B-2B4F849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43E-89D7-4114-AAA4-C792ABAD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D75-420A-487D-88E9-5FAEB79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70F-84A4-4F06-924A-A9969DF4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C5E-112D-478F-A807-2F550B1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C9D9FCD-BDD1-47CE-8200-2F3E3260DD3A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2:23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EADC-592C-42AD-AFDC-D5163D46AF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23AB95B-302A-43B8-B4F4-835A4F9AB7C5}" type="datetime12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2:23 AM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5B14-2CDC-4DDC-9DDB-650CA4A6F0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7200" spc="-1" strike="noStrike">
                <a:solidFill>
                  <a:srgbClr val="3406b4"/>
                </a:solidFill>
                <a:latin typeface="Arial"/>
              </a:rPr>
              <a:t>التوقيع الإلكترو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4925880"/>
            <a:ext cx="1447920" cy="1322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قديم : مريم جاسم محمد 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099A29-4B9F-4E8B-86B8-C11AA998CCF1}" type="datetime12">
              <a:rPr lang="en-US"/>
              <a:t>02:23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1" action="ppaction://hlinksldjump"/>
              </a:rPr>
              <a:t>تعريف التوقيع الإلكتروني</a:t>
            </a:r>
            <a:r>
              <a:rPr b="0" lang="ar-KW" sz="3200" spc="-1" strike="noStrike">
                <a:solidFill>
                  <a:srgbClr val="3406b4"/>
                </a:solidFill>
                <a:latin typeface="Arial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2" action="ppaction://hlinksldjump"/>
              </a:rPr>
              <a:t>أنواع التوقيع الإلكترو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e4005c"/>
                </a:solidFill>
                <a:uFillTx/>
                <a:latin typeface="Arial"/>
                <a:cs typeface="Simplified Arabic"/>
                <a:hlinkClick r:id="rId3" action="ppaction://hlinksldjump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E4191-B70D-48CA-9C9A-CB77A107CDE9}" type="datetime12">
              <a:rPr lang="en-US"/>
              <a:t>02:23 AM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800" y="129492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3406b4"/>
                </a:solidFill>
                <a:latin typeface="Arial"/>
              </a:rPr>
              <a:t>تعريف التوقيع الإلكتروني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3040200"/>
            <a:ext cx="640080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هو حروف وأرقام أو رموز أو اشارات لها طابع منفرد تسمح بتحديد شخص التوقيع وتمييزه عن غ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295280"/>
            <a:ext cx="6629400" cy="114300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17181" dir="2438368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67480" y="5486400"/>
            <a:ext cx="905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جو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26FDE-C765-4583-B450-B074399D697F}" type="datetime12">
              <a:rPr lang="en-US"/>
              <a:t>02:23 AM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أنواع التوقيع الإلكترون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2266920"/>
            <a:ext cx="6400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رق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توقيع الإلكتروني البيرومت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2090880" cy="2108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38280" y="838080"/>
            <a:ext cx="6324840" cy="121932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36880-B57E-4F93-80A7-B2743B596F3D}" type="datetime12">
              <a:rPr lang="en-US"/>
              <a:t>02:23 AM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38280" y="2965320"/>
            <a:ext cx="640080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يستخدم هذا النظام في التعاملات المصرفية مثل بطاقات الإئتمان التي تحتوي على رقم سري لا يعرفه سوى العمي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437920" y="990720"/>
            <a:ext cx="632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800" spc="-1" strike="noStrike">
                <a:solidFill>
                  <a:srgbClr val="8c0039"/>
                </a:solidFill>
                <a:latin typeface="Arial"/>
              </a:rPr>
              <a:t>التوقيع الالكتروني الرقمي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914400"/>
            <a:ext cx="5486400" cy="1295280"/>
          </a:xfrm>
          <a:prstGeom prst="rect">
            <a:avLst/>
          </a:prstGeom>
          <a:noFill/>
          <a:ln w="38160">
            <a:solidFill>
              <a:srgbClr val="9966ff"/>
            </a:solidFill>
            <a:miter/>
          </a:ln>
          <a:effectLst>
            <a:outerShdw dist="107932" dir="2700000" blurRad="0" rotWithShape="0">
              <a:srgbClr val="66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9660B-E8BF-44F1-B0D0-978BB1A8C2D6}" type="datetime12">
              <a:rPr lang="en-US"/>
              <a:t>02:23 AM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19520" y="990720"/>
            <a:ext cx="358128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11783-C983-49A6-AE34-2563AB13606D}" type="datetime12">
              <a:rPr lang="en-US"/>
              <a:t>02:23 AM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8120" y="1981080"/>
            <a:ext cx="1447560" cy="152424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828800"/>
            <a:ext cx="1828800" cy="1676520"/>
          </a:xfrm>
          <a:prstGeom prst="star5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419720"/>
            <a:ext cx="2133720" cy="1600200"/>
          </a:xfrm>
          <a:custGeom>
            <a:avLst/>
            <a:gdLst>
              <a:gd name="textAreaLeft" fmla="*/ 501480 w 2133720"/>
              <a:gd name="textAreaRight" fmla="*/ 1630800 w 2133720"/>
              <a:gd name="textAreaTop" fmla="*/ 187920 h 1600200"/>
              <a:gd name="textAreaBottom" fmla="*/ 1003680 h 160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82092-F00C-4CCD-BC83-286B221CBC5B}" type="datetime12">
              <a:rPr lang="en-US"/>
              <a:t>02:23 AM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00139 L -0.12587 0.08487 C -0.13872 0.10222 -0.15087 0.13159 -0.15955 0.16327 C -0.16945 0.19935 -0.17396 0.2308 -0.17223 0.25486 L -0.17136 0.36679 E">
                                      <p:cBhvr>
                                        <p:cTn id="1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9066E-006 L 0.07934 0.07724 C 0.09688 0.09343 0.11545 0.12257 0.129 0.15657 C 0.14479 0.19588 0.15209 0.23103 0.15243 0.25948 L 0.15712 0.39153 E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46 L 3.33333E-006 -0.43849 E">
                                      <p:cBhvr>
                                        <p:cTn id="2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136 0.36679 L -0.175 -0.05551 E">
                                      <p:cBhvr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0.35569 L 0.17917 -0.06661 E">
                                      <p:cBhvr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n 10"/>
          <p:cNvSpPr/>
          <p:nvPr/>
        </p:nvSpPr>
        <p:spPr>
          <a:xfrm>
            <a:off x="4648320" y="1066680"/>
            <a:ext cx="1676160" cy="1447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 11"/>
          <p:cNvSpPr/>
          <p:nvPr/>
        </p:nvSpPr>
        <p:spPr>
          <a:xfrm>
            <a:off x="2743200" y="2514600"/>
            <a:ext cx="190512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loud 11"/>
          <p:cNvSpPr/>
          <p:nvPr/>
        </p:nvSpPr>
        <p:spPr>
          <a:xfrm>
            <a:off x="6477120" y="2514600"/>
            <a:ext cx="1904760" cy="990720"/>
          </a:xfrm>
          <a:prstGeom prst="pie">
            <a:avLst/>
          </a:prstGeom>
          <a:solidFill>
            <a:srgbClr val="9c9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Chord"/>
          <p:cNvSpPr/>
          <p:nvPr/>
        </p:nvSpPr>
        <p:spPr>
          <a:xfrm rot="15700200">
            <a:off x="5672520" y="30135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ubChord"/>
          <p:cNvSpPr/>
          <p:nvPr/>
        </p:nvSpPr>
        <p:spPr>
          <a:xfrm rot="15700200">
            <a:off x="5063040" y="30132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ubChord"/>
          <p:cNvSpPr/>
          <p:nvPr/>
        </p:nvSpPr>
        <p:spPr>
          <a:xfrm rot="15700200">
            <a:off x="5367960" y="347040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ubChord"/>
          <p:cNvSpPr/>
          <p:nvPr/>
        </p:nvSpPr>
        <p:spPr>
          <a:xfrm rot="15700200">
            <a:off x="4986720" y="3699360"/>
            <a:ext cx="31284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ubChord"/>
          <p:cNvSpPr/>
          <p:nvPr/>
        </p:nvSpPr>
        <p:spPr>
          <a:xfrm rot="15700200">
            <a:off x="5749200" y="3852000"/>
            <a:ext cx="3124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ubChord"/>
          <p:cNvSpPr/>
          <p:nvPr/>
        </p:nvSpPr>
        <p:spPr>
          <a:xfrm rot="15700200">
            <a:off x="5367960" y="4232520"/>
            <a:ext cx="3128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42" y="4084"/>
                </a:moveTo>
                <a:arcTo wR="10800" hR="10800" stAng="-8493038" swAng="-10406962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B3C98-194A-4D67-9441-E4EE22ECEB2E}" type="datetime12">
              <a:rPr lang="en-US"/>
              <a:t>02:23 AM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animMotion origin="layout" path="M 3.33333E-006 -2.88622E-006 L 0.14583 -0.12766 E">
                                      <p:cBhvr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3.33333E-006 -3.3025E-006 L -0.15834 -0.13321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5:54:53Z</dcterms:created>
  <dc:creator>student</dc:creator>
  <dc:description/>
  <dc:language>en-US</dc:language>
  <cp:lastModifiedBy>wardh</cp:lastModifiedBy>
  <dcterms:modified xsi:type="dcterms:W3CDTF">2010-01-06T18:48:27Z</dcterms:modified>
  <cp:revision>4</cp:revision>
  <dc:subject/>
  <dc:title>التوقيع الإلكتروني</dc:title>
</cp:coreProperties>
</file>