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47A3-A6BE-4AC2-B40F-54E194A3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01D6-1299-4C23-9559-6E097CDC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FC28-CCC3-42A3-948E-2AF7EEBD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58E-02E2-4E1B-BC66-B6E70C45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A7C-1B23-4F86-86A5-DD6CADC4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50DB-C9E7-4171-B015-E6F67F79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7A4A-5BAE-446B-AD09-0B745CDF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C667-E018-41B5-AE9E-DDAC4DF9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AF9-F3AE-430E-A00D-12974174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C9C-E662-476E-A6F4-181CDF54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C8E-B47E-4FFE-8AB3-45CF9964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8C1-5F12-42B1-8678-926B5CA4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CB80-E866-4EC2-B207-FEE5AFCC65E9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٧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ريم جاسم الفر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6AB8-6A3A-4DFB-897C-FED6F619208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c00000"/>
                </a:solidFill>
                <a:latin typeface="Calibri"/>
              </a:rPr>
              <a:t>اختبار مهارات حركة مخصصة – </a:t>
            </a:r>
            <a:r>
              <a:rPr b="0" lang="ar-KW" sz="4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KW" sz="4400" spc="-1" strike="noStrike">
                <a:solidFill>
                  <a:srgbClr val="c00000"/>
                </a:solidFill>
                <a:latin typeface="Calibri"/>
              </a:rPr>
              <a:t>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عنصر نائب للتذييل 3"/>
          <p:cNvSpPr/>
          <p:nvPr/>
        </p:nvSpPr>
        <p:spPr>
          <a:xfrm>
            <a:off x="2666880" y="5867280"/>
            <a:ext cx="35816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ريم جاسم الفر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c00000"/>
                </a:solidFill>
                <a:latin typeface="Calibri"/>
              </a:rPr>
              <a:t>اضغط على الشكل المكع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عنصر نائب للتذييل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ريم جاسم الفر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مستطيل 5" descr=""/>
          <p:cNvPicPr/>
          <p:nvPr/>
        </p:nvPicPr>
        <p:blipFill>
          <a:blip r:embed="rId2"/>
          <a:stretch/>
        </p:blipFill>
        <p:spPr>
          <a:xfrm>
            <a:off x="420840" y="1700280"/>
            <a:ext cx="1822320" cy="1969920"/>
          </a:xfrm>
          <a:prstGeom prst="rect">
            <a:avLst/>
          </a:prstGeom>
          <a:ln w="0">
            <a:noFill/>
          </a:ln>
        </p:spPr>
      </p:pic>
      <p:pic>
        <p:nvPicPr>
          <p:cNvPr id="47" name="سداسي 6" descr=""/>
          <p:cNvPicPr/>
          <p:nvPr/>
        </p:nvPicPr>
        <p:blipFill>
          <a:blip r:embed="rId3"/>
          <a:stretch/>
        </p:blipFill>
        <p:spPr>
          <a:xfrm>
            <a:off x="3090960" y="1500120"/>
            <a:ext cx="1974600" cy="2157480"/>
          </a:xfrm>
          <a:prstGeom prst="rect">
            <a:avLst/>
          </a:prstGeom>
          <a:ln w="0">
            <a:noFill/>
          </a:ln>
        </p:spPr>
      </p:pic>
      <p:grpSp>
        <p:nvGrpSpPr>
          <p:cNvPr id="48" name="مخطط انسيابي: شريط مثقب 7"/>
          <p:cNvGrpSpPr/>
          <p:nvPr/>
        </p:nvGrpSpPr>
        <p:grpSpPr>
          <a:xfrm>
            <a:off x="554040" y="4095720"/>
            <a:ext cx="3189240" cy="2092320"/>
            <a:chOff x="554040" y="4095720"/>
            <a:chExt cx="3189240" cy="2092320"/>
          </a:xfrm>
        </p:grpSpPr>
        <p:pic>
          <p:nvPicPr>
            <p:cNvPr id="49" name="مخطط انسيابي: شريط مثقب 7" descr=""/>
            <p:cNvPicPr/>
            <p:nvPr/>
          </p:nvPicPr>
          <p:blipFill>
            <a:blip r:embed="rId4"/>
            <a:stretch/>
          </p:blipFill>
          <p:spPr>
            <a:xfrm>
              <a:off x="554040" y="4095720"/>
              <a:ext cx="318924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14400" y="4465800"/>
              <a:ext cx="2819520" cy="10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وجه ضاحك 8"/>
          <p:cNvSpPr/>
          <p:nvPr/>
        </p:nvSpPr>
        <p:spPr>
          <a:xfrm>
            <a:off x="6858000" y="7086600"/>
            <a:ext cx="1752480" cy="16765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وجه ضاحك 9"/>
          <p:cNvSpPr/>
          <p:nvPr/>
        </p:nvSpPr>
        <p:spPr>
          <a:xfrm>
            <a:off x="6477120" y="7086600"/>
            <a:ext cx="1904760" cy="1828800"/>
          </a:xfrm>
          <a:prstGeom prst="smileyFace">
            <a:avLst>
              <a:gd name="adj" fmla="val -4652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وجه ضاحك 11"/>
          <p:cNvSpPr/>
          <p:nvPr/>
        </p:nvSpPr>
        <p:spPr>
          <a:xfrm>
            <a:off x="5105520" y="7086600"/>
            <a:ext cx="1904760" cy="1828800"/>
          </a:xfrm>
          <a:prstGeom prst="smileyFace">
            <a:avLst>
              <a:gd name="adj" fmla="val -2606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3.33333E-006 -1.38889 E">
                                      <p:cBhvr>
                                        <p:cTn id="15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1.11111E-006 L 1.11022E-016 -1.44444 E">
                                      <p:cBhvr>
                                        <p:cTn id="20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0834 -1.45556 E">
                                      <p:cBhvr>
                                        <p:cTn id="25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7:32:41Z</dcterms:created>
  <dc:creator>student</dc:creator>
  <dc:description/>
  <dc:language>en-US</dc:language>
  <cp:lastModifiedBy>student</cp:lastModifiedBy>
  <dcterms:modified xsi:type="dcterms:W3CDTF">2009-12-10T08:02:32Z</dcterms:modified>
  <cp:revision>3</cp:revision>
  <dc:subject/>
  <dc:title>اختبار مهارات حركة مخصصة – 1 -</dc:title>
</cp:coreProperties>
</file>