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1C2-D8E4-4284-B0D6-7937BAB6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558-779B-4D2A-B771-51716A23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967-D362-4D0E-9C0B-B7DB2E39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4F9-6D54-4E77-9F56-50C8BF5A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4B7-EC00-49D6-BC27-E37DC25B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86C-1ED9-48BA-AA17-8C2B360F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8EC-7F48-44E2-BD2D-14F4A6D8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6B9-B890-4E2A-AFC6-AB3451BB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F5B-EA56-479F-B91E-A87307EA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5C7-2E33-4E3B-9796-9997DB6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639-C749-4AD3-B5C1-A7F98A62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CC23-3615-4445-BD07-78F2A90F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C5CE-4E3A-4C05-B78F-CCF9FC9ECC67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٥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F128-0B7C-4D0D-B901-1DA08B7950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اختبار مهارات حركة مخصصة – </a:t>
            </a: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لتذييل 3"/>
          <p:cNvSpPr/>
          <p:nvPr/>
        </p:nvSpPr>
        <p:spPr>
          <a:xfrm>
            <a:off x="2666880" y="5867280"/>
            <a:ext cx="35816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c00000"/>
                </a:solidFill>
                <a:latin typeface="Calibri"/>
              </a:rPr>
              <a:t>اضغط على الشكل المكع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عنصر نائب للتذييل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مريم جاسم الفر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مستطيل 5" descr=""/>
          <p:cNvPicPr/>
          <p:nvPr/>
        </p:nvPicPr>
        <p:blipFill>
          <a:blip r:embed="rId2"/>
          <a:stretch/>
        </p:blipFill>
        <p:spPr>
          <a:xfrm>
            <a:off x="420840" y="1700280"/>
            <a:ext cx="1822320" cy="1969920"/>
          </a:xfrm>
          <a:prstGeom prst="rect">
            <a:avLst/>
          </a:prstGeom>
          <a:ln w="0">
            <a:noFill/>
          </a:ln>
        </p:spPr>
      </p:pic>
      <p:pic>
        <p:nvPicPr>
          <p:cNvPr id="47" name="سداسي 6" descr=""/>
          <p:cNvPicPr/>
          <p:nvPr/>
        </p:nvPicPr>
        <p:blipFill>
          <a:blip r:embed="rId3"/>
          <a:stretch/>
        </p:blipFill>
        <p:spPr>
          <a:xfrm>
            <a:off x="3090960" y="1500120"/>
            <a:ext cx="1974600" cy="2157480"/>
          </a:xfrm>
          <a:prstGeom prst="rect">
            <a:avLst/>
          </a:prstGeom>
          <a:ln w="0">
            <a:noFill/>
          </a:ln>
        </p:spPr>
      </p:pic>
      <p:grpSp>
        <p:nvGrpSpPr>
          <p:cNvPr id="48" name="مخطط انسيابي: شريط مثقب 7"/>
          <p:cNvGrpSpPr/>
          <p:nvPr/>
        </p:nvGrpSpPr>
        <p:grpSpPr>
          <a:xfrm>
            <a:off x="554040" y="4095720"/>
            <a:ext cx="3189240" cy="2092320"/>
            <a:chOff x="554040" y="4095720"/>
            <a:chExt cx="3189240" cy="2092320"/>
          </a:xfrm>
        </p:grpSpPr>
        <p:pic>
          <p:nvPicPr>
            <p:cNvPr id="49" name="مخطط انسيابي: شريط مثقب 7" descr=""/>
            <p:cNvPicPr/>
            <p:nvPr/>
          </p:nvPicPr>
          <p:blipFill>
            <a:blip r:embed="rId4"/>
            <a:stretch/>
          </p:blipFill>
          <p:spPr>
            <a:xfrm>
              <a:off x="554040" y="4095720"/>
              <a:ext cx="318924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14400" y="4465800"/>
              <a:ext cx="281952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وجه ضاحك 8"/>
          <p:cNvSpPr/>
          <p:nvPr/>
        </p:nvSpPr>
        <p:spPr>
          <a:xfrm>
            <a:off x="6858000" y="7086600"/>
            <a:ext cx="1752480" cy="16765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وجه ضاحك 9"/>
          <p:cNvSpPr/>
          <p:nvPr/>
        </p:nvSpPr>
        <p:spPr>
          <a:xfrm>
            <a:off x="6477120" y="7086600"/>
            <a:ext cx="1904760" cy="1828800"/>
          </a:xfrm>
          <a:prstGeom prst="smileyFace">
            <a:avLst>
              <a:gd name="adj" fmla="val -4652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وجه ضاحك 11"/>
          <p:cNvSpPr/>
          <p:nvPr/>
        </p:nvSpPr>
        <p:spPr>
          <a:xfrm>
            <a:off x="5105520" y="7086600"/>
            <a:ext cx="1904760" cy="1828800"/>
          </a:xfrm>
          <a:prstGeom prst="smileyFace">
            <a:avLst>
              <a:gd name="adj" fmla="val -2606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1.38889 E">
                                      <p:cBhvr>
                                        <p:cTn id="15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111E-006 L 1.11022E-016 -1.44444 E">
                                      <p:cBhvr>
                                        <p:cTn id="20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0834 -1.45556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7:32:41Z</dcterms:created>
  <dc:creator>student</dc:creator>
  <dc:description/>
  <dc:language>en-US</dc:language>
  <cp:lastModifiedBy>student</cp:lastModifiedBy>
  <dcterms:modified xsi:type="dcterms:W3CDTF">2009-12-10T08:02:32Z</dcterms:modified>
  <cp:revision>3</cp:revision>
  <dc:subject/>
  <dc:title>اختبار مهارات حركة مخصصة – 1 -</dc:title>
</cp:coreProperties>
</file>